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939338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05440" cy="9944280"/>
          </a:xfrm>
          <a:custGeom>
            <a:avLst/>
            <a:gdLst>
              <a:gd name="textAreaLeft" fmla="*/ 360 w 6805440"/>
              <a:gd name="textAreaRight" fmla="*/ 6805080 w 6805440"/>
              <a:gd name="textAreaTop" fmla="*/ 360 h 9944280"/>
              <a:gd name="textAreaBottom" fmla="*/ 9943920 h 9944280"/>
            </a:gdLst>
            <a:ahLst/>
            <a:rect l="textAreaLeft" t="textAreaTop" r="textAreaRight" b="textAreaBottom"/>
            <a:pathLst>
              <a:path w="21600" h="31562">
                <a:moveTo>
                  <a:pt x="5" y="0"/>
                </a:moveTo>
                <a:arcTo wR="5" hR="5" stAng="16200000" swAng="-5400000"/>
                <a:lnTo>
                  <a:pt x="0" y="31557"/>
                </a:lnTo>
                <a:arcTo wR="5" hR="5" stAng="10800000" swAng="-5400000"/>
                <a:lnTo>
                  <a:pt x="21595" y="3156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05440" cy="9944280"/>
          </a:xfrm>
          <a:custGeom>
            <a:avLst/>
            <a:gdLst>
              <a:gd name="textAreaLeft" fmla="*/ 360 w 6805440"/>
              <a:gd name="textAreaRight" fmla="*/ 6805080 w 6805440"/>
              <a:gd name="textAreaTop" fmla="*/ 360 h 9944280"/>
              <a:gd name="textAreaBottom" fmla="*/ 9943920 h 9944280"/>
            </a:gdLst>
            <a:ahLst/>
            <a:rect l="textAreaLeft" t="textAreaTop" r="textAreaRight" b="textAreaBottom"/>
            <a:pathLst>
              <a:path w="21600" h="31562">
                <a:moveTo>
                  <a:pt x="5" y="0"/>
                </a:moveTo>
                <a:arcTo wR="5" hR="5" stAng="16200000" swAng="-5400000"/>
                <a:lnTo>
                  <a:pt x="0" y="31557"/>
                </a:lnTo>
                <a:arcTo wR="5" hR="5" stAng="10800000" swAng="-5400000"/>
                <a:lnTo>
                  <a:pt x="21595" y="3156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05440" cy="9944280"/>
          </a:xfrm>
          <a:custGeom>
            <a:avLst/>
            <a:gdLst>
              <a:gd name="textAreaLeft" fmla="*/ 360 w 6805440"/>
              <a:gd name="textAreaRight" fmla="*/ 6805080 w 6805440"/>
              <a:gd name="textAreaTop" fmla="*/ 360 h 9944280"/>
              <a:gd name="textAreaBottom" fmla="*/ 9943920 h 9944280"/>
            </a:gdLst>
            <a:ahLst/>
            <a:rect l="textAreaLeft" t="textAreaTop" r="textAreaRight" b="textAreaBottom"/>
            <a:pathLst>
              <a:path w="21600" h="31562">
                <a:moveTo>
                  <a:pt x="5" y="0"/>
                </a:moveTo>
                <a:arcTo wR="5" hR="5" stAng="16200000" swAng="-5400000"/>
                <a:lnTo>
                  <a:pt x="0" y="31557"/>
                </a:lnTo>
                <a:arcTo wR="5" hR="5" stAng="10800000" swAng="-5400000"/>
                <a:lnTo>
                  <a:pt x="21595" y="3156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05440" cy="9944280"/>
          </a:xfrm>
          <a:custGeom>
            <a:avLst/>
            <a:gdLst>
              <a:gd name="textAreaLeft" fmla="*/ 360 w 6805440"/>
              <a:gd name="textAreaRight" fmla="*/ 6805080 w 6805440"/>
              <a:gd name="textAreaTop" fmla="*/ 360 h 9944280"/>
              <a:gd name="textAreaBottom" fmla="*/ 9943920 h 9944280"/>
            </a:gdLst>
            <a:ahLst/>
            <a:rect l="textAreaLeft" t="textAreaTop" r="textAreaRight" b="textAreaBottom"/>
            <a:pathLst>
              <a:path w="21600" h="31562">
                <a:moveTo>
                  <a:pt x="5" y="0"/>
                </a:moveTo>
                <a:arcTo wR="5" hR="5" stAng="16200000" swAng="-5400000"/>
                <a:lnTo>
                  <a:pt x="0" y="31557"/>
                </a:lnTo>
                <a:arcTo wR="5" hR="5" stAng="10800000" swAng="-5400000"/>
                <a:lnTo>
                  <a:pt x="21595" y="3156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05440" cy="9944280"/>
          </a:xfrm>
          <a:custGeom>
            <a:avLst/>
            <a:gdLst>
              <a:gd name="textAreaLeft" fmla="*/ 360 w 6805440"/>
              <a:gd name="textAreaRight" fmla="*/ 6805080 w 6805440"/>
              <a:gd name="textAreaTop" fmla="*/ 360 h 9944280"/>
              <a:gd name="textAreaBottom" fmla="*/ 9943920 h 9944280"/>
            </a:gdLst>
            <a:ahLst/>
            <a:rect l="textAreaLeft" t="textAreaTop" r="textAreaRight" b="textAreaBottom"/>
            <a:pathLst>
              <a:path w="21600" h="31562">
                <a:moveTo>
                  <a:pt x="5" y="0"/>
                </a:moveTo>
                <a:arcTo wR="5" hR="5" stAng="16200000" swAng="-5400000"/>
                <a:lnTo>
                  <a:pt x="0" y="31557"/>
                </a:lnTo>
                <a:arcTo wR="5" hR="5" stAng="10800000" swAng="-5400000"/>
                <a:lnTo>
                  <a:pt x="21595" y="3156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05440" cy="9944280"/>
          </a:xfrm>
          <a:custGeom>
            <a:avLst/>
            <a:gdLst>
              <a:gd name="textAreaLeft" fmla="*/ 360 w 6805440"/>
              <a:gd name="textAreaRight" fmla="*/ 6805080 w 6805440"/>
              <a:gd name="textAreaTop" fmla="*/ 360 h 9944280"/>
              <a:gd name="textAreaBottom" fmla="*/ 9943920 h 9944280"/>
            </a:gdLst>
            <a:ahLst/>
            <a:rect l="textAreaLeft" t="textAreaTop" r="textAreaRight" b="textAreaBottom"/>
            <a:pathLst>
              <a:path w="21600" h="31562">
                <a:moveTo>
                  <a:pt x="5" y="0"/>
                </a:moveTo>
                <a:arcTo wR="5" hR="5" stAng="16200000" swAng="-5400000"/>
                <a:lnTo>
                  <a:pt x="0" y="31557"/>
                </a:lnTo>
                <a:arcTo wR="5" hR="5" stAng="10800000" swAng="-5400000"/>
                <a:lnTo>
                  <a:pt x="21595" y="3156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849840" y="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704520" y="747720"/>
            <a:ext cx="5388120" cy="371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1120" y="4724280"/>
            <a:ext cx="5432400" cy="4461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9442440"/>
            <a:ext cx="295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3849480" y="9442440"/>
            <a:ext cx="2943000" cy="488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0720"/>
                <a:tab algn="l" pos="905040"/>
                <a:tab algn="l" pos="1357200"/>
                <a:tab algn="l" pos="1811160"/>
                <a:tab algn="l" pos="2265480"/>
                <a:tab algn="l" pos="2719440"/>
                <a:tab algn="l" pos="3171960"/>
                <a:tab algn="l" pos="3625920"/>
                <a:tab algn="l" pos="4079880"/>
                <a:tab algn="l" pos="4532400"/>
                <a:tab algn="l" pos="4986360"/>
                <a:tab algn="l" pos="5440320"/>
                <a:tab algn="l" pos="5892840"/>
                <a:tab algn="l" pos="6346800"/>
                <a:tab algn="l" pos="6800760"/>
                <a:tab algn="l" pos="7253280"/>
                <a:tab algn="l" pos="7707240"/>
                <a:tab algn="l" pos="8161200"/>
                <a:tab algn="l" pos="861372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0720"/>
                <a:tab algn="l" pos="905040"/>
                <a:tab algn="l" pos="1357200"/>
                <a:tab algn="l" pos="1811160"/>
                <a:tab algn="l" pos="2265480"/>
                <a:tab algn="l" pos="2719440"/>
                <a:tab algn="l" pos="3171960"/>
                <a:tab algn="l" pos="3625920"/>
                <a:tab algn="l" pos="4079880"/>
                <a:tab algn="l" pos="4532400"/>
                <a:tab algn="l" pos="4986360"/>
                <a:tab algn="l" pos="5440320"/>
                <a:tab algn="l" pos="5892840"/>
                <a:tab algn="l" pos="6346800"/>
                <a:tab algn="l" pos="6800760"/>
                <a:tab algn="l" pos="7253280"/>
                <a:tab algn="l" pos="7707240"/>
                <a:tab algn="l" pos="8161200"/>
                <a:tab algn="l" pos="861372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fld id="{CD990FF5-84FB-4828-AD9C-85FCC57291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2"/>
          <p:cNvSpPr/>
          <p:nvPr/>
        </p:nvSpPr>
        <p:spPr>
          <a:xfrm>
            <a:off x="3849840" y="9442440"/>
            <a:ext cx="2943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0720"/>
                <a:tab algn="l" pos="905040"/>
                <a:tab algn="l" pos="1357200"/>
                <a:tab algn="l" pos="1811160"/>
                <a:tab algn="l" pos="2265480"/>
                <a:tab algn="l" pos="2719440"/>
                <a:tab algn="l" pos="3171960"/>
                <a:tab algn="l" pos="3625920"/>
                <a:tab algn="l" pos="4079880"/>
                <a:tab algn="l" pos="4532400"/>
                <a:tab algn="l" pos="4986360"/>
                <a:tab algn="l" pos="5440320"/>
                <a:tab algn="l" pos="5892840"/>
                <a:tab algn="l" pos="6346800"/>
                <a:tab algn="l" pos="6800760"/>
                <a:tab algn="l" pos="7253280"/>
                <a:tab algn="l" pos="7707240"/>
                <a:tab algn="l" pos="8161200"/>
                <a:tab algn="l" pos="861372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fld id="{96F38FAF-4260-40DF-9C34-13D1DB9A84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703440" y="747720"/>
            <a:ext cx="5400360" cy="37274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1120" y="4724280"/>
            <a:ext cx="54338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2"/>
          <p:cNvSpPr/>
          <p:nvPr/>
        </p:nvSpPr>
        <p:spPr>
          <a:xfrm>
            <a:off x="3849840" y="9442440"/>
            <a:ext cx="2943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0720"/>
                <a:tab algn="l" pos="905040"/>
                <a:tab algn="l" pos="1357200"/>
                <a:tab algn="l" pos="1811160"/>
                <a:tab algn="l" pos="2265480"/>
                <a:tab algn="l" pos="2719440"/>
                <a:tab algn="l" pos="3171960"/>
                <a:tab algn="l" pos="3625920"/>
                <a:tab algn="l" pos="4079880"/>
                <a:tab algn="l" pos="4532400"/>
                <a:tab algn="l" pos="4986360"/>
                <a:tab algn="l" pos="5440320"/>
                <a:tab algn="l" pos="5892840"/>
                <a:tab algn="l" pos="6346800"/>
                <a:tab algn="l" pos="6800760"/>
                <a:tab algn="l" pos="7253280"/>
                <a:tab algn="l" pos="7707240"/>
                <a:tab algn="l" pos="8161200"/>
                <a:tab algn="l" pos="861372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fld id="{8B2DF03B-6735-4922-A859-EBD3254A29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703440" y="747720"/>
            <a:ext cx="5400360" cy="37274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1120" y="4724280"/>
            <a:ext cx="54338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2"/>
          <p:cNvSpPr/>
          <p:nvPr/>
        </p:nvSpPr>
        <p:spPr>
          <a:xfrm>
            <a:off x="3849840" y="9442440"/>
            <a:ext cx="2943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0720"/>
                <a:tab algn="l" pos="905040"/>
                <a:tab algn="l" pos="1357200"/>
                <a:tab algn="l" pos="1811160"/>
                <a:tab algn="l" pos="2265480"/>
                <a:tab algn="l" pos="2719440"/>
                <a:tab algn="l" pos="3171960"/>
                <a:tab algn="l" pos="3625920"/>
                <a:tab algn="l" pos="4079880"/>
                <a:tab algn="l" pos="4532400"/>
                <a:tab algn="l" pos="4986360"/>
                <a:tab algn="l" pos="5440320"/>
                <a:tab algn="l" pos="5892840"/>
                <a:tab algn="l" pos="6346800"/>
                <a:tab algn="l" pos="6800760"/>
                <a:tab algn="l" pos="7253280"/>
                <a:tab algn="l" pos="7707240"/>
                <a:tab algn="l" pos="8161200"/>
                <a:tab algn="l" pos="861372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fld id="{FA686188-68CA-4A9E-A3F9-65FE414E5C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703440" y="747720"/>
            <a:ext cx="5400360" cy="37274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1120" y="4724280"/>
            <a:ext cx="54338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2"/>
          <p:cNvSpPr/>
          <p:nvPr/>
        </p:nvSpPr>
        <p:spPr>
          <a:xfrm>
            <a:off x="3849840" y="9442440"/>
            <a:ext cx="2943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0720"/>
                <a:tab algn="l" pos="905040"/>
                <a:tab algn="l" pos="1357200"/>
                <a:tab algn="l" pos="1811160"/>
                <a:tab algn="l" pos="2265480"/>
                <a:tab algn="l" pos="2719440"/>
                <a:tab algn="l" pos="3171960"/>
                <a:tab algn="l" pos="3625920"/>
                <a:tab algn="l" pos="4079880"/>
                <a:tab algn="l" pos="4532400"/>
                <a:tab algn="l" pos="4986360"/>
                <a:tab algn="l" pos="5440320"/>
                <a:tab algn="l" pos="5892840"/>
                <a:tab algn="l" pos="6346800"/>
                <a:tab algn="l" pos="6800760"/>
                <a:tab algn="l" pos="7253280"/>
                <a:tab algn="l" pos="7707240"/>
                <a:tab algn="l" pos="8161200"/>
                <a:tab algn="l" pos="861372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fld id="{E4DF3EA1-6648-48BE-9BC6-7DAD0857E9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703440" y="747720"/>
            <a:ext cx="5400360" cy="37274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1120" y="4724280"/>
            <a:ext cx="54338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2"/>
          <p:cNvSpPr/>
          <p:nvPr/>
        </p:nvSpPr>
        <p:spPr>
          <a:xfrm>
            <a:off x="3849840" y="9442440"/>
            <a:ext cx="2943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0720"/>
                <a:tab algn="l" pos="905040"/>
                <a:tab algn="l" pos="1357200"/>
                <a:tab algn="l" pos="1811160"/>
                <a:tab algn="l" pos="2265480"/>
                <a:tab algn="l" pos="2719440"/>
                <a:tab algn="l" pos="3171960"/>
                <a:tab algn="l" pos="3625920"/>
                <a:tab algn="l" pos="4079880"/>
                <a:tab algn="l" pos="4532400"/>
                <a:tab algn="l" pos="4986360"/>
                <a:tab algn="l" pos="5440320"/>
                <a:tab algn="l" pos="5892840"/>
                <a:tab algn="l" pos="6346800"/>
                <a:tab algn="l" pos="6800760"/>
                <a:tab algn="l" pos="7253280"/>
                <a:tab algn="l" pos="7707240"/>
                <a:tab algn="l" pos="8161200"/>
                <a:tab algn="l" pos="861372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fld id="{54BA44EE-5746-4EB0-A737-B4240DB508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03440" y="747720"/>
            <a:ext cx="5400360" cy="37274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1120" y="4724280"/>
            <a:ext cx="54338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2"/>
          <p:cNvSpPr/>
          <p:nvPr/>
        </p:nvSpPr>
        <p:spPr>
          <a:xfrm>
            <a:off x="3849840" y="9442440"/>
            <a:ext cx="2943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0720"/>
                <a:tab algn="l" pos="905040"/>
                <a:tab algn="l" pos="1357200"/>
                <a:tab algn="l" pos="1811160"/>
                <a:tab algn="l" pos="2265480"/>
                <a:tab algn="l" pos="2719440"/>
                <a:tab algn="l" pos="3171960"/>
                <a:tab algn="l" pos="3625920"/>
                <a:tab algn="l" pos="4079880"/>
                <a:tab algn="l" pos="4532400"/>
                <a:tab algn="l" pos="4986360"/>
                <a:tab algn="l" pos="5440320"/>
                <a:tab algn="l" pos="5892840"/>
                <a:tab algn="l" pos="6346800"/>
                <a:tab algn="l" pos="6800760"/>
                <a:tab algn="l" pos="7253280"/>
                <a:tab algn="l" pos="7707240"/>
                <a:tab algn="l" pos="8161200"/>
                <a:tab algn="l" pos="861372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fld id="{07A23B7F-21F7-4F91-B47F-3119690875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704880" y="747720"/>
            <a:ext cx="5398920" cy="3726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1120" y="4724280"/>
            <a:ext cx="54338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2"/>
          <p:cNvSpPr/>
          <p:nvPr/>
        </p:nvSpPr>
        <p:spPr>
          <a:xfrm>
            <a:off x="3849840" y="9442440"/>
            <a:ext cx="2943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0720"/>
                <a:tab algn="l" pos="905040"/>
                <a:tab algn="l" pos="1357200"/>
                <a:tab algn="l" pos="1811160"/>
                <a:tab algn="l" pos="2265480"/>
                <a:tab algn="l" pos="2719440"/>
                <a:tab algn="l" pos="3171960"/>
                <a:tab algn="l" pos="3625920"/>
                <a:tab algn="l" pos="4079880"/>
                <a:tab algn="l" pos="4532400"/>
                <a:tab algn="l" pos="4986360"/>
                <a:tab algn="l" pos="5440320"/>
                <a:tab algn="l" pos="5892840"/>
                <a:tab algn="l" pos="6346800"/>
                <a:tab algn="l" pos="6800760"/>
                <a:tab algn="l" pos="7253280"/>
                <a:tab algn="l" pos="7707240"/>
                <a:tab algn="l" pos="8161200"/>
                <a:tab algn="l" pos="861372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fld id="{46A932CD-D914-41B2-97BA-DF61FAF251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703440" y="747720"/>
            <a:ext cx="5400360" cy="37274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1120" y="4724280"/>
            <a:ext cx="54338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2"/>
          <p:cNvSpPr/>
          <p:nvPr/>
        </p:nvSpPr>
        <p:spPr>
          <a:xfrm>
            <a:off x="3849840" y="9442440"/>
            <a:ext cx="2943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0720"/>
                <a:tab algn="l" pos="905040"/>
                <a:tab algn="l" pos="1357200"/>
                <a:tab algn="l" pos="1811160"/>
                <a:tab algn="l" pos="2265480"/>
                <a:tab algn="l" pos="2719440"/>
                <a:tab algn="l" pos="3171960"/>
                <a:tab algn="l" pos="3625920"/>
                <a:tab algn="l" pos="4079880"/>
                <a:tab algn="l" pos="4532400"/>
                <a:tab algn="l" pos="4986360"/>
                <a:tab algn="l" pos="5440320"/>
                <a:tab algn="l" pos="5892840"/>
                <a:tab algn="l" pos="6346800"/>
                <a:tab algn="l" pos="6800760"/>
                <a:tab algn="l" pos="7253280"/>
                <a:tab algn="l" pos="7707240"/>
                <a:tab algn="l" pos="8161200"/>
                <a:tab algn="l" pos="861372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fld id="{84ED9778-8FF1-4F48-A0A8-6023BF14E5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703440" y="747720"/>
            <a:ext cx="5400360" cy="37274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1120" y="4724280"/>
            <a:ext cx="54338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2"/>
          <p:cNvSpPr/>
          <p:nvPr/>
        </p:nvSpPr>
        <p:spPr>
          <a:xfrm>
            <a:off x="3849840" y="9442440"/>
            <a:ext cx="2943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0720"/>
                <a:tab algn="l" pos="905040"/>
                <a:tab algn="l" pos="1357200"/>
                <a:tab algn="l" pos="1811160"/>
                <a:tab algn="l" pos="2265480"/>
                <a:tab algn="l" pos="2719440"/>
                <a:tab algn="l" pos="3171960"/>
                <a:tab algn="l" pos="3625920"/>
                <a:tab algn="l" pos="4079880"/>
                <a:tab algn="l" pos="4532400"/>
                <a:tab algn="l" pos="4986360"/>
                <a:tab algn="l" pos="5440320"/>
                <a:tab algn="l" pos="5892840"/>
                <a:tab algn="l" pos="6346800"/>
                <a:tab algn="l" pos="6800760"/>
                <a:tab algn="l" pos="7253280"/>
                <a:tab algn="l" pos="7707240"/>
                <a:tab algn="l" pos="8161200"/>
                <a:tab algn="l" pos="861372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fld id="{5E32352B-BCB2-4038-81EA-2185C2362A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03440" y="747720"/>
            <a:ext cx="5400360" cy="37274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1120" y="4724280"/>
            <a:ext cx="54338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2"/>
          <p:cNvSpPr/>
          <p:nvPr/>
        </p:nvSpPr>
        <p:spPr>
          <a:xfrm>
            <a:off x="3849840" y="9442440"/>
            <a:ext cx="2943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0720"/>
                <a:tab algn="l" pos="905040"/>
                <a:tab algn="l" pos="1357200"/>
                <a:tab algn="l" pos="1811160"/>
                <a:tab algn="l" pos="2265480"/>
                <a:tab algn="l" pos="2719440"/>
                <a:tab algn="l" pos="3171960"/>
                <a:tab algn="l" pos="3625920"/>
                <a:tab algn="l" pos="4079880"/>
                <a:tab algn="l" pos="4532400"/>
                <a:tab algn="l" pos="4986360"/>
                <a:tab algn="l" pos="5440320"/>
                <a:tab algn="l" pos="5892840"/>
                <a:tab algn="l" pos="6346800"/>
                <a:tab algn="l" pos="6800760"/>
                <a:tab algn="l" pos="7253280"/>
                <a:tab algn="l" pos="7707240"/>
                <a:tab algn="l" pos="8161200"/>
                <a:tab algn="l" pos="861372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fld id="{CF7FDDFB-4934-4BCE-8E9F-5B646FB966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03440" y="747720"/>
            <a:ext cx="5400360" cy="37274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1120" y="4724280"/>
            <a:ext cx="54338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2"/>
          <p:cNvSpPr/>
          <p:nvPr/>
        </p:nvSpPr>
        <p:spPr>
          <a:xfrm>
            <a:off x="3849840" y="9442440"/>
            <a:ext cx="2943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0720"/>
                <a:tab algn="l" pos="905040"/>
                <a:tab algn="l" pos="1357200"/>
                <a:tab algn="l" pos="1811160"/>
                <a:tab algn="l" pos="2265480"/>
                <a:tab algn="l" pos="2719440"/>
                <a:tab algn="l" pos="3171960"/>
                <a:tab algn="l" pos="3625920"/>
                <a:tab algn="l" pos="4079880"/>
                <a:tab algn="l" pos="4532400"/>
                <a:tab algn="l" pos="4986360"/>
                <a:tab algn="l" pos="5440320"/>
                <a:tab algn="l" pos="5892840"/>
                <a:tab algn="l" pos="6346800"/>
                <a:tab algn="l" pos="6800760"/>
                <a:tab algn="l" pos="7253280"/>
                <a:tab algn="l" pos="7707240"/>
                <a:tab algn="l" pos="8161200"/>
                <a:tab algn="l" pos="861372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fld id="{794ECA81-EA8A-4E75-BEFA-E87D8E4365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703440" y="747720"/>
            <a:ext cx="5400360" cy="3727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1120" y="4724280"/>
            <a:ext cx="54338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2"/>
          <p:cNvSpPr/>
          <p:nvPr/>
        </p:nvSpPr>
        <p:spPr>
          <a:xfrm>
            <a:off x="3849840" y="9442440"/>
            <a:ext cx="2943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0720"/>
                <a:tab algn="l" pos="905040"/>
                <a:tab algn="l" pos="1357200"/>
                <a:tab algn="l" pos="1811160"/>
                <a:tab algn="l" pos="2265480"/>
                <a:tab algn="l" pos="2719440"/>
                <a:tab algn="l" pos="3171960"/>
                <a:tab algn="l" pos="3625920"/>
                <a:tab algn="l" pos="4079880"/>
                <a:tab algn="l" pos="4532400"/>
                <a:tab algn="l" pos="4986360"/>
                <a:tab algn="l" pos="5440320"/>
                <a:tab algn="l" pos="5892840"/>
                <a:tab algn="l" pos="6346800"/>
                <a:tab algn="l" pos="6800760"/>
                <a:tab algn="l" pos="7253280"/>
                <a:tab algn="l" pos="7707240"/>
                <a:tab algn="l" pos="8161200"/>
                <a:tab algn="l" pos="861372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fld id="{B09D12BC-DFC0-47E0-944E-58BB8F94AD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703440" y="747720"/>
            <a:ext cx="5400360" cy="3727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1120" y="4724280"/>
            <a:ext cx="54338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2"/>
          <p:cNvSpPr/>
          <p:nvPr/>
        </p:nvSpPr>
        <p:spPr>
          <a:xfrm>
            <a:off x="3849840" y="9442440"/>
            <a:ext cx="2943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0720"/>
                <a:tab algn="l" pos="905040"/>
                <a:tab algn="l" pos="1357200"/>
                <a:tab algn="l" pos="1811160"/>
                <a:tab algn="l" pos="2265480"/>
                <a:tab algn="l" pos="2719440"/>
                <a:tab algn="l" pos="3171960"/>
                <a:tab algn="l" pos="3625920"/>
                <a:tab algn="l" pos="4079880"/>
                <a:tab algn="l" pos="4532400"/>
                <a:tab algn="l" pos="4986360"/>
                <a:tab algn="l" pos="5440320"/>
                <a:tab algn="l" pos="5892840"/>
                <a:tab algn="l" pos="6346800"/>
                <a:tab algn="l" pos="6800760"/>
                <a:tab algn="l" pos="7253280"/>
                <a:tab algn="l" pos="7707240"/>
                <a:tab algn="l" pos="8161200"/>
                <a:tab algn="l" pos="861372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fld id="{4C263D70-2FFD-4B89-A500-BAEB0533D2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03440" y="747720"/>
            <a:ext cx="5400360" cy="3727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1120" y="4724280"/>
            <a:ext cx="54338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4FEB-A730-4A4E-9683-22C01C38F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6800" y="128520"/>
            <a:ext cx="893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89344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6800" y="3959640"/>
            <a:ext cx="89344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E103-5E96-4047-AD2C-E73C3B174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6800" y="128520"/>
            <a:ext cx="893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599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5280" y="1600200"/>
            <a:ext cx="43599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6800" y="3959640"/>
            <a:ext cx="43599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5280" y="3959640"/>
            <a:ext cx="43599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578F-DED2-4053-A03B-5A40F133F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6800" y="128520"/>
            <a:ext cx="893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2876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7920" y="1600200"/>
            <a:ext cx="2876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8680" y="1600200"/>
            <a:ext cx="2876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6800" y="3959640"/>
            <a:ext cx="2876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7920" y="3959640"/>
            <a:ext cx="2876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8680" y="3959640"/>
            <a:ext cx="28767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9697-A9FF-4FC7-A036-0971C9B72D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6800" y="128520"/>
            <a:ext cx="893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6800" y="1600200"/>
            <a:ext cx="893448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F0BE-D75D-463C-870B-0A73459D15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6800" y="128520"/>
            <a:ext cx="893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89344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748D-7611-4847-AF6B-04FB1186E0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6800" y="128520"/>
            <a:ext cx="893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599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5280" y="1600200"/>
            <a:ext cx="43599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CCD7-729D-403B-B9B2-D1EC0E089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6800" y="128520"/>
            <a:ext cx="893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856A-6A0B-4640-9C3A-BEC514EF6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6800" y="128520"/>
            <a:ext cx="8934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EE52-385E-438C-979E-CD3F1D0D7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6800" y="128520"/>
            <a:ext cx="893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599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5280" y="1600200"/>
            <a:ext cx="43599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6800" y="3959640"/>
            <a:ext cx="43599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4993-7A63-44D1-88EB-D95A6DF46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6800" y="128520"/>
            <a:ext cx="893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5996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600200"/>
            <a:ext cx="43599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5280" y="3959640"/>
            <a:ext cx="43599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98013-0F9F-4EED-9792-9DCED32C2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6800" y="128520"/>
            <a:ext cx="893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599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600200"/>
            <a:ext cx="435996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6800" y="3959640"/>
            <a:ext cx="89344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1967-D4CB-4CBE-AB68-F92E0EE73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df9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6800" y="128520"/>
            <a:ext cx="893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6800" y="1600200"/>
            <a:ext cx="89344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96800" y="6245280"/>
            <a:ext cx="2319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395520" y="6245280"/>
            <a:ext cx="314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21520" y="6245280"/>
            <a:ext cx="23097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C2FEB-A4B8-42E6-BE63-0EB86D5F729D}" type="slidenum"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onsultantplus://offline/ref=A6CDF43AC8530F4E10ACD30EF643D075E0832A2D58FB0CC6D3C352C4068FCB91C1206DF16481A50Ci5t2F" TargetMode="External"/><Relationship Id="rId3" Type="http://schemas.openxmlformats.org/officeDocument/2006/relationships/hyperlink" Target="consultantplus://offline/ref=A6CDF43AC8530F4E10ACD30EF643D075E083282D58FC0CC6D3C352C4068FCB91C1206DF16481A50Ai5t5F" TargetMode="External"/><Relationship Id="rId4" Type="http://schemas.openxmlformats.org/officeDocument/2006/relationships/hyperlink" Target="consultantplus://offline/ref=A6CDF43AC8530F4E10ACD30EF643D075E0832A2C5FF80CC6D3C352C4068FCB91C1206DF3i6t5F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2549520" y="2271600"/>
            <a:ext cx="2751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3211560" y="2652840"/>
            <a:ext cx="432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7520" y="907920"/>
            <a:ext cx="98902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-3240" y="152280"/>
            <a:ext cx="9938880" cy="668520"/>
            <a:chOff x="-3240" y="152280"/>
            <a:chExt cx="9938880" cy="668520"/>
          </a:xfrm>
        </p:grpSpPr>
        <p:sp>
          <p:nvSpPr>
            <p:cNvPr id="58" name="Rectangle 5"/>
            <p:cNvSpPr/>
            <p:nvPr/>
          </p:nvSpPr>
          <p:spPr>
            <a:xfrm>
              <a:off x="1407600" y="198000"/>
              <a:ext cx="8362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</a:rPr>
                <a:t>Г У  –  М у р м а н с к о е   р е г и о н а л ь н о е   о т д е л е н и е   ФСС   РФ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1242720" y="456480"/>
              <a:ext cx="869292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Line 7"/>
            <p:cNvSpPr/>
            <p:nvPr/>
          </p:nvSpPr>
          <p:spPr>
            <a:xfrm flipV="1">
              <a:off x="1238040" y="492120"/>
              <a:ext cx="8695800" cy="205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" name="Picture 8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331560" y="152280"/>
              <a:ext cx="91080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Line 9"/>
            <p:cNvSpPr/>
            <p:nvPr/>
          </p:nvSpPr>
          <p:spPr>
            <a:xfrm>
              <a:off x="-3240" y="4500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-3240" y="5004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Text Box 11"/>
          <p:cNvSpPr/>
          <p:nvPr/>
        </p:nvSpPr>
        <p:spPr>
          <a:xfrm>
            <a:off x="433440" y="623880"/>
            <a:ext cx="933912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f75"/>
                </a:solidFill>
                <a:latin typeface="Times New Roman"/>
              </a:rPr>
              <a:t>СОВЕТ ПРИ ГУБЕРНАТОРЕ МУРМАНСКОЙ ОБЛАСТИ ПО ДЕЛАМ ИНВАЛИДОВ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f75"/>
                </a:solidFill>
                <a:latin typeface="Times New Roman"/>
              </a:rPr>
              <a:t>Обеспечение инвалидов техническими средствами реабилитации и отдельных категорий граждан из числа ветеранов протезами (кроме зубных протезов), протезно-ортопедическими изделиям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f75"/>
                </a:solidFill>
                <a:latin typeface="Times New Roman"/>
              </a:rPr>
              <a:t>Г.И. Шмойлова заместитель управляющего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2"/>
          <a:stretch/>
        </p:blipFill>
        <p:spPr>
          <a:xfrm>
            <a:off x="3017880" y="1639800"/>
            <a:ext cx="3840120" cy="28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1"/>
          <p:cNvGrpSpPr/>
          <p:nvPr/>
        </p:nvGrpSpPr>
        <p:grpSpPr>
          <a:xfrm>
            <a:off x="-3240" y="152280"/>
            <a:ext cx="9938880" cy="668520"/>
            <a:chOff x="-3240" y="152280"/>
            <a:chExt cx="9938880" cy="668520"/>
          </a:xfrm>
        </p:grpSpPr>
        <p:sp>
          <p:nvSpPr>
            <p:cNvPr id="160" name="Rectangle 2"/>
            <p:cNvSpPr/>
            <p:nvPr/>
          </p:nvSpPr>
          <p:spPr>
            <a:xfrm>
              <a:off x="1407600" y="198000"/>
              <a:ext cx="8362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</a:rPr>
                <a:t>Г У  –  М у р м а н с к о е   р е г и о н а л ь н о е   о т д е л е н и е   ФСС   РФ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Line 3"/>
            <p:cNvSpPr/>
            <p:nvPr/>
          </p:nvSpPr>
          <p:spPr>
            <a:xfrm>
              <a:off x="1242720" y="456480"/>
              <a:ext cx="869292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4"/>
            <p:cNvSpPr/>
            <p:nvPr/>
          </p:nvSpPr>
          <p:spPr>
            <a:xfrm flipV="1">
              <a:off x="1238040" y="492120"/>
              <a:ext cx="8695800" cy="205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3" name="Picture 5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331560" y="152280"/>
              <a:ext cx="91080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Line 6"/>
            <p:cNvSpPr/>
            <p:nvPr/>
          </p:nvSpPr>
          <p:spPr>
            <a:xfrm>
              <a:off x="-3240" y="4500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-3240" y="5004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Text Box 8"/>
          <p:cNvSpPr/>
          <p:nvPr/>
        </p:nvSpPr>
        <p:spPr>
          <a:xfrm>
            <a:off x="1009800" y="549360"/>
            <a:ext cx="89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f75"/>
                </a:solidFill>
                <a:latin typeface="Arial"/>
              </a:rPr>
              <a:t>Расходы по обеспечению инвалидов (ветеранов) техническими средствами реабилитации, включая изготовление и ремонт протезно-ортопедических изделий (тыс.руб.)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8353440" y="3933720"/>
            <a:ext cx="13683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акт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10.12.2012г.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Object 10" descr=""/>
          <p:cNvPicPr/>
          <p:nvPr/>
        </p:nvPicPr>
        <p:blipFill>
          <a:blip r:embed="rId2"/>
          <a:stretch/>
        </p:blipFill>
        <p:spPr>
          <a:xfrm>
            <a:off x="179280" y="1471680"/>
            <a:ext cx="9620280" cy="51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2549520" y="2271600"/>
            <a:ext cx="2751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3211560" y="2652840"/>
            <a:ext cx="432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7520" y="907920"/>
            <a:ext cx="98902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-3240" y="152280"/>
            <a:ext cx="9938880" cy="668520"/>
            <a:chOff x="-3240" y="152280"/>
            <a:chExt cx="9938880" cy="668520"/>
          </a:xfrm>
        </p:grpSpPr>
        <p:sp>
          <p:nvSpPr>
            <p:cNvPr id="173" name="Rectangle 5"/>
            <p:cNvSpPr/>
            <p:nvPr/>
          </p:nvSpPr>
          <p:spPr>
            <a:xfrm>
              <a:off x="1407600" y="198000"/>
              <a:ext cx="8362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</a:rPr>
                <a:t>Г У  –  М у р м а н с к о е   р е г и о н а л ь н о е   о т д е л е н и е   ФСС   РФ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>
              <a:off x="1242720" y="456480"/>
              <a:ext cx="869292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7"/>
            <p:cNvSpPr/>
            <p:nvPr/>
          </p:nvSpPr>
          <p:spPr>
            <a:xfrm flipV="1">
              <a:off x="1238040" y="492120"/>
              <a:ext cx="8695800" cy="205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6" name="Picture 8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331560" y="152280"/>
              <a:ext cx="91080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9"/>
            <p:cNvSpPr/>
            <p:nvPr/>
          </p:nvSpPr>
          <p:spPr>
            <a:xfrm>
              <a:off x="-3240" y="4500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>
              <a:off x="-3240" y="5004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Text Box 11"/>
          <p:cNvSpPr/>
          <p:nvPr/>
        </p:nvSpPr>
        <p:spPr>
          <a:xfrm>
            <a:off x="1008000" y="47160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f75"/>
                </a:solidFill>
                <a:latin typeface="Arial"/>
              </a:rPr>
              <a:t>Исполнение заявок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f75"/>
                </a:solidFill>
                <a:latin typeface="Arial"/>
              </a:rPr>
              <a:t>на обеспечение и выплату компенсационных расходов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Object 12" descr=""/>
          <p:cNvPicPr/>
          <p:nvPr/>
        </p:nvPicPr>
        <p:blipFill>
          <a:blip r:embed="rId2"/>
          <a:stretch/>
        </p:blipFill>
        <p:spPr>
          <a:xfrm>
            <a:off x="179280" y="1227240"/>
            <a:ext cx="9483840" cy="52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-3240" y="152280"/>
            <a:ext cx="9938880" cy="668520"/>
            <a:chOff x="-3240" y="152280"/>
            <a:chExt cx="9938880" cy="668520"/>
          </a:xfrm>
        </p:grpSpPr>
        <p:sp>
          <p:nvSpPr>
            <p:cNvPr id="182" name="Rectangle 3"/>
            <p:cNvSpPr/>
            <p:nvPr/>
          </p:nvSpPr>
          <p:spPr>
            <a:xfrm>
              <a:off x="1407600" y="198000"/>
              <a:ext cx="8362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</a:rPr>
                <a:t>Г У  –  М у р м а н с к о е   р е г и о н а л ь н о е   о т д е л е н и е   ФСС   РФ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4"/>
            <p:cNvSpPr/>
            <p:nvPr/>
          </p:nvSpPr>
          <p:spPr>
            <a:xfrm>
              <a:off x="1242720" y="456480"/>
              <a:ext cx="869292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 flipV="1">
              <a:off x="1238040" y="492120"/>
              <a:ext cx="8695800" cy="205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5" name="Picture 6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331560" y="152280"/>
              <a:ext cx="91080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Line 7"/>
            <p:cNvSpPr/>
            <p:nvPr/>
          </p:nvSpPr>
          <p:spPr>
            <a:xfrm>
              <a:off x="-3240" y="4500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Line 8"/>
            <p:cNvSpPr/>
            <p:nvPr/>
          </p:nvSpPr>
          <p:spPr>
            <a:xfrm>
              <a:off x="-3240" y="5004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8" name="Диаграмма 8" descr=""/>
          <p:cNvPicPr/>
          <p:nvPr/>
        </p:nvPicPr>
        <p:blipFill>
          <a:blip r:embed="rId2"/>
          <a:stretch/>
        </p:blipFill>
        <p:spPr>
          <a:xfrm>
            <a:off x="174600" y="1433520"/>
            <a:ext cx="9310680" cy="51195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0"/>
          <p:cNvSpPr/>
          <p:nvPr/>
        </p:nvSpPr>
        <p:spPr>
          <a:xfrm>
            <a:off x="936720" y="62064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3f75"/>
                </a:solidFill>
                <a:latin typeface="Arial"/>
              </a:rPr>
              <a:t>Анализ поставщиков, исполнителей контрактов в 2013 году, осуществляющих деятельность на территории Мурман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1512720" y="1430280"/>
            <a:ext cx="5329440" cy="824040"/>
          </a:xfrm>
          <a:prstGeom prst="rect">
            <a:avLst/>
          </a:prstGeom>
          <a:gradFill rotWithShape="0">
            <a:gsLst>
              <a:gs pos="0">
                <a:srgbClr val="a7d6ff"/>
              </a:gs>
              <a:gs pos="100000">
                <a:srgbClr val="fdf9d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авщики, исполнители не входящие в состав организаций Мурманской области (ФГБУ ФБ МСЭ, ФГБУ СПб НЦЭПР им. Г.А. Альбрехта и др.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6 760,0 тыс. руб.  (22,9 %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1" name="Прямая со стрелкой 13"/>
          <p:cNvCxnSpPr/>
          <p:nvPr/>
        </p:nvCxnSpPr>
        <p:spPr>
          <a:xfrm>
            <a:off x="2736720" y="2261880"/>
            <a:ext cx="14544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-3240" y="152280"/>
            <a:ext cx="9938880" cy="668520"/>
            <a:chOff x="-3240" y="152280"/>
            <a:chExt cx="9938880" cy="668520"/>
          </a:xfrm>
        </p:grpSpPr>
        <p:sp>
          <p:nvSpPr>
            <p:cNvPr id="193" name="Rectangle 3"/>
            <p:cNvSpPr/>
            <p:nvPr/>
          </p:nvSpPr>
          <p:spPr>
            <a:xfrm>
              <a:off x="1407600" y="198000"/>
              <a:ext cx="8362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</a:rPr>
                <a:t>Г У  –  М у р м а н с к о е   р е г и о н а л ь н о е   о т д е л е н и е   ФСС   РФ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4"/>
            <p:cNvSpPr/>
            <p:nvPr/>
          </p:nvSpPr>
          <p:spPr>
            <a:xfrm>
              <a:off x="1242720" y="456480"/>
              <a:ext cx="869292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5"/>
            <p:cNvSpPr/>
            <p:nvPr/>
          </p:nvSpPr>
          <p:spPr>
            <a:xfrm flipV="1">
              <a:off x="1238040" y="492120"/>
              <a:ext cx="8695800" cy="205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6" name="Picture 6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331560" y="152280"/>
              <a:ext cx="91080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Line 7"/>
            <p:cNvSpPr/>
            <p:nvPr/>
          </p:nvSpPr>
          <p:spPr>
            <a:xfrm>
              <a:off x="-3240" y="4500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8"/>
            <p:cNvSpPr/>
            <p:nvPr/>
          </p:nvSpPr>
          <p:spPr>
            <a:xfrm>
              <a:off x="-3240" y="5004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9" name="Диаграмма 8" descr=""/>
          <p:cNvPicPr/>
          <p:nvPr/>
        </p:nvPicPr>
        <p:blipFill>
          <a:blip r:embed="rId2"/>
          <a:stretch/>
        </p:blipFill>
        <p:spPr>
          <a:xfrm>
            <a:off x="174600" y="1290600"/>
            <a:ext cx="9310680" cy="52624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0"/>
          <p:cNvSpPr/>
          <p:nvPr/>
        </p:nvSpPr>
        <p:spPr>
          <a:xfrm>
            <a:off x="936720" y="62064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3f75"/>
                </a:solidFill>
                <a:latin typeface="Arial"/>
              </a:rPr>
              <a:t>Анализ поставщиков, исполнителей контрактов в 2014 году, осуществляющих деятельность на территории Мурман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2449440" y="1341360"/>
            <a:ext cx="4464000" cy="824040"/>
          </a:xfrm>
          <a:prstGeom prst="rect">
            <a:avLst/>
          </a:prstGeom>
          <a:gradFill rotWithShape="0">
            <a:gsLst>
              <a:gs pos="0">
                <a:srgbClr val="a7d6ff"/>
              </a:gs>
              <a:gs pos="100000">
                <a:srgbClr val="fdf9d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авщики, исполнители не входящие в состав организаций Мурманской области (ФГБУ ФБ МСЭ, ФГБУ СПб НЦЭПР им. Г.А. Альбрехта и др.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 119,6 тыс. руб.  (22,7 %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2" name="Прямая со стрелкой 13"/>
          <p:cNvCxnSpPr/>
          <p:nvPr/>
        </p:nvCxnSpPr>
        <p:spPr>
          <a:xfrm>
            <a:off x="2665440" y="2171880"/>
            <a:ext cx="21672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Object 14"/>
          <p:cNvGraphicFramePr/>
          <p:nvPr/>
        </p:nvGraphicFramePr>
        <p:xfrm>
          <a:off x="1654200" y="1224000"/>
          <a:ext cx="66294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4200" y="1224000"/>
                    <a:ext cx="66294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1"/>
          <p:cNvSpPr/>
          <p:nvPr/>
        </p:nvSpPr>
        <p:spPr>
          <a:xfrm>
            <a:off x="2549520" y="2271600"/>
            <a:ext cx="2751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211560" y="2652840"/>
            <a:ext cx="432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7520" y="907920"/>
            <a:ext cx="98902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-3240" y="152280"/>
            <a:ext cx="9938880" cy="668520"/>
            <a:chOff x="-3240" y="152280"/>
            <a:chExt cx="9938880" cy="668520"/>
          </a:xfrm>
        </p:grpSpPr>
        <p:sp>
          <p:nvSpPr>
            <p:cNvPr id="209" name="Rectangle 5"/>
            <p:cNvSpPr/>
            <p:nvPr/>
          </p:nvSpPr>
          <p:spPr>
            <a:xfrm>
              <a:off x="1407600" y="198000"/>
              <a:ext cx="8362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</a:rPr>
                <a:t>Г У  –  М у р м а н с к о е   р е г и о н а л ь н о е   о т д е л е н и е   ФСС   РФ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6"/>
            <p:cNvSpPr/>
            <p:nvPr/>
          </p:nvSpPr>
          <p:spPr>
            <a:xfrm>
              <a:off x="1242720" y="456480"/>
              <a:ext cx="869292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7"/>
            <p:cNvSpPr/>
            <p:nvPr/>
          </p:nvSpPr>
          <p:spPr>
            <a:xfrm flipV="1">
              <a:off x="1238040" y="492120"/>
              <a:ext cx="8695800" cy="205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2" name="Picture 8" descr=""/>
            <p:cNvPicPr/>
            <p:nvPr/>
          </p:nvPicPr>
          <p:blipFill>
            <a:blip r:embed="rId3">
              <a:lum bright="12000"/>
            </a:blip>
            <a:stretch/>
          </p:blipFill>
          <p:spPr>
            <a:xfrm>
              <a:off x="331560" y="152280"/>
              <a:ext cx="91080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Line 9"/>
            <p:cNvSpPr/>
            <p:nvPr/>
          </p:nvSpPr>
          <p:spPr>
            <a:xfrm>
              <a:off x="-3240" y="4500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>
              <a:off x="-3240" y="5004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Text Box 12"/>
          <p:cNvSpPr/>
          <p:nvPr/>
        </p:nvSpPr>
        <p:spPr>
          <a:xfrm>
            <a:off x="504720" y="476280"/>
            <a:ext cx="926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f75"/>
                </a:solidFill>
                <a:latin typeface="Arial"/>
              </a:rPr>
              <a:t>Структура распределения расходов по заключенным контрактам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f75"/>
                </a:solidFill>
                <a:latin typeface="Arial"/>
              </a:rPr>
              <a:t>на обеспечение протезно - ортопедическими изделиями в 2014 году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Диаграмма 1" descr=""/>
          <p:cNvPicPr/>
          <p:nvPr/>
        </p:nvPicPr>
        <p:blipFill>
          <a:blip r:embed="rId4"/>
          <a:stretch/>
        </p:blipFill>
        <p:spPr>
          <a:xfrm>
            <a:off x="452520" y="1258920"/>
            <a:ext cx="9059760" cy="56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2549520" y="2271600"/>
            <a:ext cx="2751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3211560" y="2652840"/>
            <a:ext cx="432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7520" y="907920"/>
            <a:ext cx="98902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-3240" y="152280"/>
            <a:ext cx="9938880" cy="668520"/>
            <a:chOff x="-3240" y="152280"/>
            <a:chExt cx="9938880" cy="668520"/>
          </a:xfrm>
        </p:grpSpPr>
        <p:sp>
          <p:nvSpPr>
            <p:cNvPr id="221" name="Rectangle 5"/>
            <p:cNvSpPr/>
            <p:nvPr/>
          </p:nvSpPr>
          <p:spPr>
            <a:xfrm>
              <a:off x="1407600" y="198000"/>
              <a:ext cx="8362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</a:rPr>
                <a:t>Г У  –  М у р м а н с к о е   р е г и о н а л ь н о е   о т д е л е н и е   ФСС   РФ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6"/>
            <p:cNvSpPr/>
            <p:nvPr/>
          </p:nvSpPr>
          <p:spPr>
            <a:xfrm>
              <a:off x="1242720" y="456480"/>
              <a:ext cx="869292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 flipV="1">
              <a:off x="1238040" y="492120"/>
              <a:ext cx="8695800" cy="205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4" name="Picture 8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331560" y="152280"/>
              <a:ext cx="91080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Line 9"/>
            <p:cNvSpPr/>
            <p:nvPr/>
          </p:nvSpPr>
          <p:spPr>
            <a:xfrm>
              <a:off x="-3240" y="4500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Line 10"/>
            <p:cNvSpPr/>
            <p:nvPr/>
          </p:nvSpPr>
          <p:spPr>
            <a:xfrm>
              <a:off x="-3240" y="5004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Text Box 11"/>
          <p:cNvSpPr/>
          <p:nvPr/>
        </p:nvSpPr>
        <p:spPr>
          <a:xfrm>
            <a:off x="439560" y="515880"/>
            <a:ext cx="93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f75"/>
                </a:solidFill>
                <a:latin typeface="Arial"/>
              </a:rPr>
              <a:t>Структура распределения расходов по заключенным контрактам на обеспечение техническими средствами реабилитации в 2014 году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Object 12" descr=""/>
          <p:cNvPicPr/>
          <p:nvPr/>
        </p:nvPicPr>
        <p:blipFill>
          <a:blip r:embed="rId2"/>
          <a:stretch/>
        </p:blipFill>
        <p:spPr>
          <a:xfrm>
            <a:off x="-50760" y="731880"/>
            <a:ext cx="9942480" cy="66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"/>
          <p:cNvGrpSpPr/>
          <p:nvPr/>
        </p:nvGrpSpPr>
        <p:grpSpPr>
          <a:xfrm>
            <a:off x="-3240" y="152280"/>
            <a:ext cx="9938880" cy="668520"/>
            <a:chOff x="-3240" y="152280"/>
            <a:chExt cx="9938880" cy="668520"/>
          </a:xfrm>
        </p:grpSpPr>
        <p:sp>
          <p:nvSpPr>
            <p:cNvPr id="230" name="Rectangle 2"/>
            <p:cNvSpPr/>
            <p:nvPr/>
          </p:nvSpPr>
          <p:spPr>
            <a:xfrm>
              <a:off x="1407600" y="198000"/>
              <a:ext cx="8362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</a:rPr>
                <a:t>Г У  –  М у р м а н с к о е   р е г и о н а л ь н о е   о т д е л е н и е   ФСС   РФ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3"/>
            <p:cNvSpPr/>
            <p:nvPr/>
          </p:nvSpPr>
          <p:spPr>
            <a:xfrm>
              <a:off x="1242720" y="456480"/>
              <a:ext cx="869292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4"/>
            <p:cNvSpPr/>
            <p:nvPr/>
          </p:nvSpPr>
          <p:spPr>
            <a:xfrm flipV="1">
              <a:off x="1238040" y="495360"/>
              <a:ext cx="8695800" cy="140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" name="Picture 5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331560" y="152280"/>
              <a:ext cx="91080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Line 6"/>
            <p:cNvSpPr/>
            <p:nvPr/>
          </p:nvSpPr>
          <p:spPr>
            <a:xfrm>
              <a:off x="-3240" y="4500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Line 7"/>
            <p:cNvSpPr/>
            <p:nvPr/>
          </p:nvSpPr>
          <p:spPr>
            <a:xfrm>
              <a:off x="-3240" y="5004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Text Box 8"/>
          <p:cNvSpPr/>
          <p:nvPr/>
        </p:nvSpPr>
        <p:spPr>
          <a:xfrm>
            <a:off x="-293760" y="620640"/>
            <a:ext cx="1006632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В региональном отделении созданы комиссии по обеспечению контроля качества предоставляемых инвалидам технических средств реабилитации. В состав комиссий входят представители общественных организаций инвалидов. Членами комиссий определяется соответствие поставляемых технических средств реабилитации качественным, техническим и функциональным характеристикам.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4"/>
          <p:cNvGrpSpPr/>
          <p:nvPr/>
        </p:nvGrpSpPr>
        <p:grpSpPr>
          <a:xfrm>
            <a:off x="-3240" y="152280"/>
            <a:ext cx="9938880" cy="668520"/>
            <a:chOff x="-3240" y="152280"/>
            <a:chExt cx="9938880" cy="668520"/>
          </a:xfrm>
        </p:grpSpPr>
        <p:sp>
          <p:nvSpPr>
            <p:cNvPr id="238" name="Rectangle 5"/>
            <p:cNvSpPr/>
            <p:nvPr/>
          </p:nvSpPr>
          <p:spPr>
            <a:xfrm>
              <a:off x="1407600" y="198000"/>
              <a:ext cx="8362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</a:rPr>
                <a:t>Г У  –  М у р м а н с к о е   р е г и о н а л ь н о е   о т д е л е н и е   ФСС   РФ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6"/>
            <p:cNvSpPr/>
            <p:nvPr/>
          </p:nvSpPr>
          <p:spPr>
            <a:xfrm>
              <a:off x="1242720" y="456480"/>
              <a:ext cx="869292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7"/>
            <p:cNvSpPr/>
            <p:nvPr/>
          </p:nvSpPr>
          <p:spPr>
            <a:xfrm flipV="1">
              <a:off x="1238040" y="492120"/>
              <a:ext cx="8695800" cy="205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" name="Picture 8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331560" y="152280"/>
              <a:ext cx="91080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Line 9"/>
            <p:cNvSpPr/>
            <p:nvPr/>
          </p:nvSpPr>
          <p:spPr>
            <a:xfrm>
              <a:off x="-3240" y="4500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Line 10"/>
            <p:cNvSpPr/>
            <p:nvPr/>
          </p:nvSpPr>
          <p:spPr>
            <a:xfrm>
              <a:off x="-3240" y="5004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TextBox 9"/>
          <p:cNvSpPr/>
          <p:nvPr/>
        </p:nvSpPr>
        <p:spPr>
          <a:xfrm>
            <a:off x="649440" y="1700280"/>
            <a:ext cx="835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3f75"/>
                </a:solidFill>
                <a:latin typeface="Times New Roman"/>
              </a:rPr>
              <a:t>Санаторно-курортное лечение льготных категорий граждан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4"/>
          <p:cNvGrpSpPr/>
          <p:nvPr/>
        </p:nvGrpSpPr>
        <p:grpSpPr>
          <a:xfrm>
            <a:off x="-3240" y="152280"/>
            <a:ext cx="9938880" cy="668520"/>
            <a:chOff x="-3240" y="152280"/>
            <a:chExt cx="9938880" cy="668520"/>
          </a:xfrm>
        </p:grpSpPr>
        <p:sp>
          <p:nvSpPr>
            <p:cNvPr id="246" name="Rectangle 5"/>
            <p:cNvSpPr/>
            <p:nvPr/>
          </p:nvSpPr>
          <p:spPr>
            <a:xfrm>
              <a:off x="1407600" y="198000"/>
              <a:ext cx="8362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</a:rPr>
                <a:t>Г У  –  М у р м а н с к о е   р е г и о н а л ь н о е   о т д е л е н и е   ФСС   РФ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Line 6"/>
            <p:cNvSpPr/>
            <p:nvPr/>
          </p:nvSpPr>
          <p:spPr>
            <a:xfrm>
              <a:off x="1242720" y="456480"/>
              <a:ext cx="869292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7"/>
            <p:cNvSpPr/>
            <p:nvPr/>
          </p:nvSpPr>
          <p:spPr>
            <a:xfrm flipV="1">
              <a:off x="1238040" y="492120"/>
              <a:ext cx="8695800" cy="205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9" name="Picture 8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331560" y="152280"/>
              <a:ext cx="91080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Line 9"/>
            <p:cNvSpPr/>
            <p:nvPr/>
          </p:nvSpPr>
          <p:spPr>
            <a:xfrm>
              <a:off x="-3240" y="4500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Line 10"/>
            <p:cNvSpPr/>
            <p:nvPr/>
          </p:nvSpPr>
          <p:spPr>
            <a:xfrm>
              <a:off x="-3240" y="5004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TextBox 8"/>
          <p:cNvSpPr/>
          <p:nvPr/>
        </p:nvSpPr>
        <p:spPr>
          <a:xfrm>
            <a:off x="936720" y="514440"/>
            <a:ext cx="8640720" cy="65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тверждена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тановлением Правительства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26 декабря 2013 г. N 1294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МЕТОДИКА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РАСЧЕТА ОБЪЕМА СРЕДСТВ, ПРЕДУСМОТРЕННЫХ НА ФИНАНСОВОЕ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ОБЕСПЕЧЕНИЕ РАСХОДОВ ПО ПРЕДОСТАВЛЕНИЮ ГРАЖДАНАМ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ГОСУДАРСТВЕННОЙ СОЦИАЛЬНОЙ ПОМОЩИ В ВИДЕ НАБОРА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СОЦИАЛЬНЫХ УСЛУГ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введена </a:t>
            </a:r>
            <a:r>
              <a:rPr b="0" lang="ru-RU" sz="1300" spc="-1" strike="noStrike" u="sng">
                <a:solidFill>
                  <a:srgbClr val="eb8803"/>
                </a:solidFill>
                <a:uFillTx/>
                <a:latin typeface="Times New Roman"/>
                <a:hlinkClick r:id="rId2"/>
              </a:rPr>
              <a:t>Постановлением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Правительства РФ от 26.12.2013 N 1294)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бъем финансирования расходов по предоставлению гражданам путевок на санаторно-курортное лечение (Vск) определяется по формуле: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Vск = Nск x Чск x 12,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де: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Nск - </a:t>
            </a:r>
            <a:r>
              <a:rPr b="0" lang="ru-RU" sz="1300" spc="-1" strike="noStrike" u="sng">
                <a:solidFill>
                  <a:srgbClr val="eb8803"/>
                </a:solidFill>
                <a:uFillTx/>
                <a:latin typeface="Times New Roman"/>
                <a:hlinkClick r:id="rId3"/>
              </a:rPr>
              <a:t>норматив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финансовых затрат в месяц на одного гражданина, получающего государственную социальную помощь в виде социальной услуги по санаторно-курортному лечению, утверждаемый ежегодно Министерством труда и социальной защиты Российской Федерации;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Чск - численность граждан из числа включенных в Федеральный регистр лиц, имеющих право на получение государственной социальной помощи, по состоянию на 1 октября года, предшествующего очередному году, в котором указанные граждане будут иметь право на получение набора социальных услуг в соответствии со </a:t>
            </a:r>
            <a:r>
              <a:rPr b="0" lang="ru-RU" sz="1300" spc="-1" strike="noStrike" u="sng">
                <a:solidFill>
                  <a:srgbClr val="eb8803"/>
                </a:solidFill>
                <a:uFillTx/>
                <a:latin typeface="Times New Roman"/>
                <a:hlinkClick r:id="rId4"/>
              </a:rPr>
              <a:t>статьей 6.2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Федерального закона "О государственной социальной помощи" в виде социальной услуги по санаторно-курортному лечению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Например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Nск=103,75 руб. (утвержден Приказом Министерства труда и социальной защиты Российской Федерации от 11.09.2013 г. № 459н)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 состоянию на 01.01.14 по сведениям Регистра Пенсионного Фонда в Мурманской области Чск =13 218 человек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Vск= 103,75x 13 218x 12 = 16 456 410 руб. 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"/>
          <p:cNvGrpSpPr/>
          <p:nvPr/>
        </p:nvGrpSpPr>
        <p:grpSpPr>
          <a:xfrm>
            <a:off x="-3240" y="152280"/>
            <a:ext cx="9938880" cy="668520"/>
            <a:chOff x="-3240" y="152280"/>
            <a:chExt cx="9938880" cy="668520"/>
          </a:xfrm>
        </p:grpSpPr>
        <p:sp>
          <p:nvSpPr>
            <p:cNvPr id="254" name="Rectangle 5"/>
            <p:cNvSpPr/>
            <p:nvPr/>
          </p:nvSpPr>
          <p:spPr>
            <a:xfrm>
              <a:off x="1407600" y="198000"/>
              <a:ext cx="8362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</a:rPr>
                <a:t>Г У  –  М у р м а н с к о е   р е г и о н а л ь н о е   о т д е л е н и е   ФСС   РФ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6"/>
            <p:cNvSpPr/>
            <p:nvPr/>
          </p:nvSpPr>
          <p:spPr>
            <a:xfrm>
              <a:off x="1242720" y="456480"/>
              <a:ext cx="869292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Line 7"/>
            <p:cNvSpPr/>
            <p:nvPr/>
          </p:nvSpPr>
          <p:spPr>
            <a:xfrm flipV="1">
              <a:off x="1238040" y="492120"/>
              <a:ext cx="8695800" cy="205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7" name="Picture 8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331560" y="152280"/>
              <a:ext cx="91080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Line 9"/>
            <p:cNvSpPr/>
            <p:nvPr/>
          </p:nvSpPr>
          <p:spPr>
            <a:xfrm>
              <a:off x="-3240" y="4500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Line 10"/>
            <p:cNvSpPr/>
            <p:nvPr/>
          </p:nvSpPr>
          <p:spPr>
            <a:xfrm>
              <a:off x="-3240" y="5004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0" name="TextBox 8"/>
          <p:cNvSpPr/>
          <p:nvPr/>
        </p:nvSpPr>
        <p:spPr>
          <a:xfrm>
            <a:off x="1152360" y="514440"/>
            <a:ext cx="8407440" cy="55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год региональному отделению для оплаты путевок на санаторно-курортное лечение для отдельных категорий граждан Мурманской области выделены бюджетные ассигнования в сумм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6 432 200,00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уб.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итогам процедур размещения заказов отобрано 14 здравниц, приобретен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4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утевок.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 них в: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натории Мурманской области - 486 путевок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рноморское побережье - 52 путевки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вказские Минеральные воды – 25 путевок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едняя полоса — 35 путевок.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пециализированные санатории приобретено 150 путевок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год для оплаты путевок на санаторно-курортное лечение для отдельных категорий граждан Мурманской области выделены ассигнования в сумм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6 463 500,0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уб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итогам процедур размещения заказов отобрано 13 здравниц. Региональным отделением приобретен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1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утевок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2549520" y="2271600"/>
            <a:ext cx="2751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3211560" y="2652840"/>
            <a:ext cx="432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7520" y="907920"/>
            <a:ext cx="98902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-3240" y="152280"/>
            <a:ext cx="9938880" cy="668520"/>
            <a:chOff x="-3240" y="152280"/>
            <a:chExt cx="9938880" cy="668520"/>
          </a:xfrm>
        </p:grpSpPr>
        <p:sp>
          <p:nvSpPr>
            <p:cNvPr id="70" name="Rectangle 5"/>
            <p:cNvSpPr/>
            <p:nvPr/>
          </p:nvSpPr>
          <p:spPr>
            <a:xfrm>
              <a:off x="1407600" y="198000"/>
              <a:ext cx="8362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</a:rPr>
                <a:t>Г У  –  М у р м а н с к о е   р е г и о н а л ь н о е   о т д е л е н и е   ФСС   РФ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6"/>
            <p:cNvSpPr/>
            <p:nvPr/>
          </p:nvSpPr>
          <p:spPr>
            <a:xfrm>
              <a:off x="1242720" y="456480"/>
              <a:ext cx="869292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7"/>
            <p:cNvSpPr/>
            <p:nvPr/>
          </p:nvSpPr>
          <p:spPr>
            <a:xfrm flipV="1">
              <a:off x="1238040" y="492120"/>
              <a:ext cx="8695800" cy="205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" name="Picture 8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331560" y="152280"/>
              <a:ext cx="91080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Line 9"/>
            <p:cNvSpPr/>
            <p:nvPr/>
          </p:nvSpPr>
          <p:spPr>
            <a:xfrm>
              <a:off x="-3240" y="4500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Line 10"/>
            <p:cNvSpPr/>
            <p:nvPr/>
          </p:nvSpPr>
          <p:spPr>
            <a:xfrm>
              <a:off x="-3240" y="5004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541080"/>
            <a:ext cx="929952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Обеспечение инвалидов техническими средствами реабилитации регулируется основными </a:t>
            </a:r>
            <a:br>
              <a:rPr sz="2200"/>
            </a:b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нормативными документа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989964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57200" algn="ctr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аспоряжением Правительства Российской Федерации от 30.12.2005 № 2347-р, утвержден Федеральный перечень реабилитационных мероприятий, технических средств реабилитации и услуг, предоставляемых инвали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044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044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. Постановлением Правительства Российской Федерации от 07.04.2008 № 240, утверждены Правила обеспечения инвалидов техническими средствами реабилитации и отдельных категорий граждан из числа ветеранов протезами (кроме зубных протезов), протезно-ортопедическими издел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2549520" y="2271600"/>
            <a:ext cx="2751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211560" y="2652840"/>
            <a:ext cx="432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7520" y="907920"/>
            <a:ext cx="98902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Group 4"/>
          <p:cNvGrpSpPr/>
          <p:nvPr/>
        </p:nvGrpSpPr>
        <p:grpSpPr>
          <a:xfrm>
            <a:off x="-3240" y="152280"/>
            <a:ext cx="9938880" cy="668520"/>
            <a:chOff x="-3240" y="152280"/>
            <a:chExt cx="9938880" cy="668520"/>
          </a:xfrm>
        </p:grpSpPr>
        <p:sp>
          <p:nvSpPr>
            <p:cNvPr id="265" name="Rectangle 5"/>
            <p:cNvSpPr/>
            <p:nvPr/>
          </p:nvSpPr>
          <p:spPr>
            <a:xfrm>
              <a:off x="1407600" y="198000"/>
              <a:ext cx="8362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</a:rPr>
                <a:t>Г У  –  М у р м а н с к о е   р е г и о н а л ь н о е   о т д е л е н и е   ФСС   РФ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Line 6"/>
            <p:cNvSpPr/>
            <p:nvPr/>
          </p:nvSpPr>
          <p:spPr>
            <a:xfrm>
              <a:off x="1242720" y="456480"/>
              <a:ext cx="869292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7"/>
            <p:cNvSpPr/>
            <p:nvPr/>
          </p:nvSpPr>
          <p:spPr>
            <a:xfrm flipV="1">
              <a:off x="1238040" y="492120"/>
              <a:ext cx="8695800" cy="205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8" name="Picture 8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331560" y="152280"/>
              <a:ext cx="91080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Line 9"/>
            <p:cNvSpPr/>
            <p:nvPr/>
          </p:nvSpPr>
          <p:spPr>
            <a:xfrm>
              <a:off x="-3240" y="4500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10"/>
            <p:cNvSpPr/>
            <p:nvPr/>
          </p:nvSpPr>
          <p:spPr>
            <a:xfrm>
              <a:off x="-3240" y="5004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Text Box 11"/>
          <p:cNvSpPr/>
          <p:nvPr/>
        </p:nvSpPr>
        <p:spPr>
          <a:xfrm>
            <a:off x="2336760" y="2924280"/>
            <a:ext cx="573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2549520" y="2271600"/>
            <a:ext cx="2751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211560" y="2652840"/>
            <a:ext cx="432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-3240" y="152280"/>
            <a:ext cx="9938880" cy="668520"/>
            <a:chOff x="-3240" y="152280"/>
            <a:chExt cx="9938880" cy="668520"/>
          </a:xfrm>
        </p:grpSpPr>
        <p:sp>
          <p:nvSpPr>
            <p:cNvPr id="81" name="Rectangle 5"/>
            <p:cNvSpPr/>
            <p:nvPr/>
          </p:nvSpPr>
          <p:spPr>
            <a:xfrm>
              <a:off x="1407600" y="198000"/>
              <a:ext cx="8362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</a:rPr>
                <a:t>Г У  –  М у р м а н с к о е   р е г и о н а л ь н о е   о т д е л е н и е   ФСС   РФ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6"/>
            <p:cNvSpPr/>
            <p:nvPr/>
          </p:nvSpPr>
          <p:spPr>
            <a:xfrm>
              <a:off x="1242720" y="456480"/>
              <a:ext cx="869292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Line 7"/>
            <p:cNvSpPr/>
            <p:nvPr/>
          </p:nvSpPr>
          <p:spPr>
            <a:xfrm flipV="1">
              <a:off x="1238040" y="492120"/>
              <a:ext cx="8695800" cy="205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4" name="Picture 8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331560" y="152280"/>
              <a:ext cx="91080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Line 9"/>
            <p:cNvSpPr/>
            <p:nvPr/>
          </p:nvSpPr>
          <p:spPr>
            <a:xfrm>
              <a:off x="-3240" y="4500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Line 10"/>
            <p:cNvSpPr/>
            <p:nvPr/>
          </p:nvSpPr>
          <p:spPr>
            <a:xfrm>
              <a:off x="-3240" y="5004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-287280" y="822240"/>
            <a:ext cx="10298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. Приказом Министерства здравоохранения и социального развития Российской Федерации от 31.01.2011 № 57н, утвержден Порядок выплаты компенсации за самостоятельно приобретенное инвалидом техническое средство реабилитации и (или) оказанную услугу, включая порядок определения ее размера и порядок информирования граждан о размере указанной компенс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4. Приказом Министерства труда и социальной защиты Российской Федерации от 24.05.2013 № 215н, утверждены Сроки пользования техническими средствами реабилитации, протезами и протезно-ортопедическими изделиями до их замен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5. Приказом Министерства труда и социальной защиты Российской Федерации от 24.05.2013 № 214н, утверждена Классификация технических средств реабилитации (изделий) в рамках федерального перечня реабилитационных мероприятий, технических средств реабилитации и услуг, предоставляемых инвалиду, утвержденного распоряжением Правительства Российской Федерации от 30 декабря 2005 г. № 2347-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2549520" y="2271600"/>
            <a:ext cx="2751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211560" y="2652840"/>
            <a:ext cx="432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47520" y="907920"/>
            <a:ext cx="98902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-3240" y="152280"/>
            <a:ext cx="9938880" cy="668520"/>
            <a:chOff x="-3240" y="152280"/>
            <a:chExt cx="9938880" cy="668520"/>
          </a:xfrm>
        </p:grpSpPr>
        <p:sp>
          <p:nvSpPr>
            <p:cNvPr id="92" name="Rectangle 5"/>
            <p:cNvSpPr/>
            <p:nvPr/>
          </p:nvSpPr>
          <p:spPr>
            <a:xfrm>
              <a:off x="1407600" y="198000"/>
              <a:ext cx="8362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</a:rPr>
                <a:t>Г У  –  М у р м а н с к о е   р е г и о н а л ь н о е   о т д е л е н и е   ФСС   РФ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Line 6"/>
            <p:cNvSpPr/>
            <p:nvPr/>
          </p:nvSpPr>
          <p:spPr>
            <a:xfrm>
              <a:off x="1242720" y="456480"/>
              <a:ext cx="869292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Line 7"/>
            <p:cNvSpPr/>
            <p:nvPr/>
          </p:nvSpPr>
          <p:spPr>
            <a:xfrm flipV="1">
              <a:off x="1238040" y="492120"/>
              <a:ext cx="8695800" cy="205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5" name="Picture 8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331560" y="152280"/>
              <a:ext cx="91080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Line 9"/>
            <p:cNvSpPr/>
            <p:nvPr/>
          </p:nvSpPr>
          <p:spPr>
            <a:xfrm>
              <a:off x="-3240" y="4500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10"/>
            <p:cNvSpPr/>
            <p:nvPr/>
          </p:nvSpPr>
          <p:spPr>
            <a:xfrm>
              <a:off x="-3240" y="5004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8" name="Picture 11" descr=""/>
          <p:cNvPicPr/>
          <p:nvPr/>
        </p:nvPicPr>
        <p:blipFill>
          <a:blip r:embed="rId2"/>
          <a:stretch/>
        </p:blipFill>
        <p:spPr>
          <a:xfrm>
            <a:off x="0" y="549360"/>
            <a:ext cx="9937800" cy="65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2549520" y="2271600"/>
            <a:ext cx="2751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3211560" y="2652840"/>
            <a:ext cx="432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7520" y="907920"/>
            <a:ext cx="98902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-3240" y="152280"/>
            <a:ext cx="9938880" cy="668520"/>
            <a:chOff x="-3240" y="152280"/>
            <a:chExt cx="9938880" cy="668520"/>
          </a:xfrm>
        </p:grpSpPr>
        <p:sp>
          <p:nvSpPr>
            <p:cNvPr id="103" name="Rectangle 5"/>
            <p:cNvSpPr/>
            <p:nvPr/>
          </p:nvSpPr>
          <p:spPr>
            <a:xfrm>
              <a:off x="1407600" y="198000"/>
              <a:ext cx="8362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</a:rPr>
                <a:t>Г У  –  М у р м а н с к о е   р е г и о н а л ь н о е   о т д е л е н и е   ФСС   РФ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1242720" y="456480"/>
              <a:ext cx="869292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7"/>
            <p:cNvSpPr/>
            <p:nvPr/>
          </p:nvSpPr>
          <p:spPr>
            <a:xfrm flipV="1">
              <a:off x="1238040" y="492120"/>
              <a:ext cx="8695800" cy="205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6" name="Picture 8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331560" y="152280"/>
              <a:ext cx="91080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Line 9"/>
            <p:cNvSpPr/>
            <p:nvPr/>
          </p:nvSpPr>
          <p:spPr>
            <a:xfrm>
              <a:off x="-3240" y="4500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-3240" y="5004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" name="Text Box 11"/>
          <p:cNvSpPr/>
          <p:nvPr/>
        </p:nvSpPr>
        <p:spPr>
          <a:xfrm>
            <a:off x="179280" y="906480"/>
            <a:ext cx="9539280" cy="52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Региональное отделение рассматривает заявление о предоставлении технического средства (изделия), поданное инвалидом (ветераном) либо лицом, представляющим его интересы, и в 15-дневный срок с даты его поступления в письменной форме уведомляет инвалида (ветерана) о постановке на учет по обеспечению техническим средством (изделием). Одновременно с уведомлением высылается (выдается) направление на получение либо изготовление технического средства в организации, обеспечивающие техническими средствами, отобранные в порядке, установленном законодательством Российской Федерации в сфере закупок товаров, работ, услуг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(Федеральный закон от 05.04.2013 № 44-ФЗ)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2549520" y="2271600"/>
            <a:ext cx="2751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211560" y="2652840"/>
            <a:ext cx="432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7520" y="907920"/>
            <a:ext cx="98902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-3240" y="152280"/>
            <a:ext cx="9938880" cy="668520"/>
            <a:chOff x="-3240" y="152280"/>
            <a:chExt cx="9938880" cy="668520"/>
          </a:xfrm>
        </p:grpSpPr>
        <p:sp>
          <p:nvSpPr>
            <p:cNvPr id="114" name="Rectangle 5"/>
            <p:cNvSpPr/>
            <p:nvPr/>
          </p:nvSpPr>
          <p:spPr>
            <a:xfrm>
              <a:off x="1407600" y="198000"/>
              <a:ext cx="8362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</a:rPr>
                <a:t>Г У  –  М у р м а н с к о е   р е г и о н а л ь н о е   о т д е л е н и е   ФСС   РФ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6"/>
            <p:cNvSpPr/>
            <p:nvPr/>
          </p:nvSpPr>
          <p:spPr>
            <a:xfrm>
              <a:off x="1242720" y="456480"/>
              <a:ext cx="869292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 flipV="1">
              <a:off x="1238040" y="492120"/>
              <a:ext cx="8695800" cy="205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7" name="Picture 8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331560" y="152280"/>
              <a:ext cx="91080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Line 9"/>
            <p:cNvSpPr/>
            <p:nvPr/>
          </p:nvSpPr>
          <p:spPr>
            <a:xfrm>
              <a:off x="-3240" y="4500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10"/>
            <p:cNvSpPr/>
            <p:nvPr/>
          </p:nvSpPr>
          <p:spPr>
            <a:xfrm>
              <a:off x="-3240" y="5004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0" name="Picture 11" descr=""/>
          <p:cNvPicPr/>
          <p:nvPr/>
        </p:nvPicPr>
        <p:blipFill>
          <a:blip r:embed="rId2"/>
          <a:stretch/>
        </p:blipFill>
        <p:spPr>
          <a:xfrm>
            <a:off x="0" y="404640"/>
            <a:ext cx="10071000" cy="65786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2" descr=""/>
          <p:cNvPicPr/>
          <p:nvPr/>
        </p:nvPicPr>
        <p:blipFill>
          <a:blip r:embed="rId3"/>
          <a:stretch/>
        </p:blipFill>
        <p:spPr>
          <a:xfrm>
            <a:off x="2693880" y="957240"/>
            <a:ext cx="4737240" cy="586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2549520" y="2271600"/>
            <a:ext cx="2751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211560" y="2652840"/>
            <a:ext cx="432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7520" y="907920"/>
            <a:ext cx="98902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-3240" y="152280"/>
            <a:ext cx="9938880" cy="668520"/>
            <a:chOff x="-3240" y="152280"/>
            <a:chExt cx="9938880" cy="668520"/>
          </a:xfrm>
        </p:grpSpPr>
        <p:sp>
          <p:nvSpPr>
            <p:cNvPr id="126" name="Rectangle 5"/>
            <p:cNvSpPr/>
            <p:nvPr/>
          </p:nvSpPr>
          <p:spPr>
            <a:xfrm>
              <a:off x="1407600" y="198000"/>
              <a:ext cx="8362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</a:rPr>
                <a:t>Г У  –  М у р м а н с к о е   р е г и о н а л ь н о е   о т д е л е н и е   ФСС   РФ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1242720" y="456480"/>
              <a:ext cx="8692920" cy="1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7"/>
            <p:cNvSpPr/>
            <p:nvPr/>
          </p:nvSpPr>
          <p:spPr>
            <a:xfrm flipV="1">
              <a:off x="1238040" y="492120"/>
              <a:ext cx="8695800" cy="205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" name="Picture 8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331560" y="152280"/>
              <a:ext cx="91080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Line 9"/>
            <p:cNvSpPr/>
            <p:nvPr/>
          </p:nvSpPr>
          <p:spPr>
            <a:xfrm>
              <a:off x="-3240" y="4500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10"/>
            <p:cNvSpPr/>
            <p:nvPr/>
          </p:nvSpPr>
          <p:spPr>
            <a:xfrm>
              <a:off x="-3240" y="500400"/>
              <a:ext cx="3139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2" name="Рисунок 2" descr=""/>
          <p:cNvPicPr/>
          <p:nvPr/>
        </p:nvPicPr>
        <p:blipFill>
          <a:blip r:embed="rId2"/>
          <a:stretch/>
        </p:blipFill>
        <p:spPr>
          <a:xfrm>
            <a:off x="2590920" y="596880"/>
            <a:ext cx="4809960" cy="622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Объект 7" descr=""/>
          <p:cNvPicPr/>
          <p:nvPr/>
        </p:nvPicPr>
        <p:blipFill>
          <a:blip r:embed="rId1"/>
          <a:stretch/>
        </p:blipFill>
        <p:spPr>
          <a:xfrm>
            <a:off x="114480" y="1722600"/>
            <a:ext cx="9462960" cy="50702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8640" y="620280"/>
            <a:ext cx="8934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3f75"/>
                </a:solidFill>
                <a:latin typeface="Arial"/>
                <a:ea typeface="Times New Roman"/>
              </a:rPr>
              <a:t>Выделение средств федерального бюджета на обеспечение инвалидов техническими средствами реабилитации и выплату компенсации за самостоятельно приобретенные средства реабилитации</a:t>
            </a:r>
            <a:br>
              <a:rPr sz="2000"/>
            </a:br>
            <a:r>
              <a:rPr b="0" lang="ru-RU" sz="2000" spc="-1" strike="noStrike">
                <a:solidFill>
                  <a:srgbClr val="003f75"/>
                </a:solidFill>
                <a:latin typeface="Arial"/>
                <a:ea typeface="Times New Roman"/>
              </a:rPr>
              <a:t>в 2013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-6480" y="115920"/>
            <a:ext cx="9939240" cy="669960"/>
            <a:chOff x="-6480" y="115920"/>
            <a:chExt cx="9939240" cy="669960"/>
          </a:xfrm>
        </p:grpSpPr>
        <p:sp>
          <p:nvSpPr>
            <p:cNvPr id="136" name="Rectangle 5"/>
            <p:cNvSpPr/>
            <p:nvPr/>
          </p:nvSpPr>
          <p:spPr>
            <a:xfrm>
              <a:off x="1404360" y="162000"/>
              <a:ext cx="8363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</a:rPr>
                <a:t>Г У  –  М у р м а н с к о е   р е г и о н а л ь н о е   о т д е л е н и е   ФСС   РФ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Line 6"/>
            <p:cNvSpPr/>
            <p:nvPr/>
          </p:nvSpPr>
          <p:spPr>
            <a:xfrm>
              <a:off x="1239480" y="420840"/>
              <a:ext cx="86932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7"/>
            <p:cNvSpPr/>
            <p:nvPr/>
          </p:nvSpPr>
          <p:spPr>
            <a:xfrm flipV="1">
              <a:off x="1234800" y="457200"/>
              <a:ext cx="8696160" cy="208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9" name="Picture 8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328320" y="115920"/>
              <a:ext cx="9108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Line 9"/>
            <p:cNvSpPr/>
            <p:nvPr/>
          </p:nvSpPr>
          <p:spPr>
            <a:xfrm>
              <a:off x="-6480" y="414360"/>
              <a:ext cx="313920" cy="180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10"/>
            <p:cNvSpPr/>
            <p:nvPr/>
          </p:nvSpPr>
          <p:spPr>
            <a:xfrm>
              <a:off x="-6480" y="465120"/>
              <a:ext cx="313920" cy="180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TextBox 3"/>
          <p:cNvSpPr/>
          <p:nvPr/>
        </p:nvSpPr>
        <p:spPr>
          <a:xfrm>
            <a:off x="3313080" y="29131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+ 10 820,1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4249800" y="291312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+ 1 561,0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5113440" y="2795760"/>
            <a:ext cx="9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+2 283,1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5905440" y="19764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+ 31 095,8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16"/>
          <p:cNvSpPr/>
          <p:nvPr/>
        </p:nvSpPr>
        <p:spPr>
          <a:xfrm>
            <a:off x="6899400" y="192564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+ 4 000,0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61920" y="549360"/>
            <a:ext cx="89344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3f75"/>
                </a:solidFill>
                <a:latin typeface="Arial"/>
                <a:ea typeface="Times New Roman"/>
              </a:rPr>
              <a:t>Выделение средств федерального бюджета на обеспечение инвалидов техническими средствами реабилитации и выплату компенсации за самостоятельно приобретенные средства реабилитации</a:t>
            </a:r>
            <a:br>
              <a:rPr sz="2000"/>
            </a:br>
            <a:r>
              <a:rPr b="0" lang="ru-RU" sz="2000" spc="-1" strike="noStrike">
                <a:solidFill>
                  <a:srgbClr val="003f75"/>
                </a:solidFill>
                <a:latin typeface="Arial"/>
                <a:ea typeface="Times New Roman"/>
              </a:rPr>
              <a:t>в 2014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Объект 7" descr=""/>
          <p:cNvPicPr/>
          <p:nvPr/>
        </p:nvPicPr>
        <p:blipFill>
          <a:blip r:embed="rId1"/>
          <a:stretch/>
        </p:blipFill>
        <p:spPr>
          <a:xfrm>
            <a:off x="114480" y="1722600"/>
            <a:ext cx="9462960" cy="507024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4"/>
          <p:cNvGrpSpPr/>
          <p:nvPr/>
        </p:nvGrpSpPr>
        <p:grpSpPr>
          <a:xfrm>
            <a:off x="-6480" y="115920"/>
            <a:ext cx="9939240" cy="669960"/>
            <a:chOff x="-6480" y="115920"/>
            <a:chExt cx="9939240" cy="669960"/>
          </a:xfrm>
        </p:grpSpPr>
        <p:sp>
          <p:nvSpPr>
            <p:cNvPr id="150" name="Rectangle 5"/>
            <p:cNvSpPr/>
            <p:nvPr/>
          </p:nvSpPr>
          <p:spPr>
            <a:xfrm>
              <a:off x="1404360" y="162000"/>
              <a:ext cx="8363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99"/>
                  </a:solidFill>
                  <a:latin typeface="Times New Roman"/>
                </a:rPr>
                <a:t>Г У  –  М у р м а н с к о е   р е г и о н а л ь н о е   о т д е л е н и е   ФСС   РФ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>
              <a:off x="1239480" y="420840"/>
              <a:ext cx="86932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7"/>
            <p:cNvSpPr/>
            <p:nvPr/>
          </p:nvSpPr>
          <p:spPr>
            <a:xfrm flipV="1">
              <a:off x="1234800" y="457200"/>
              <a:ext cx="8696160" cy="208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3" name="Picture 8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328320" y="115920"/>
              <a:ext cx="9108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Line 9"/>
            <p:cNvSpPr/>
            <p:nvPr/>
          </p:nvSpPr>
          <p:spPr>
            <a:xfrm>
              <a:off x="-6480" y="414360"/>
              <a:ext cx="313920" cy="180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10"/>
            <p:cNvSpPr/>
            <p:nvPr/>
          </p:nvSpPr>
          <p:spPr>
            <a:xfrm>
              <a:off x="-6480" y="465120"/>
              <a:ext cx="313920" cy="180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TextBox 4"/>
          <p:cNvSpPr/>
          <p:nvPr/>
        </p:nvSpPr>
        <p:spPr>
          <a:xfrm>
            <a:off x="5329080" y="3179880"/>
            <a:ext cx="8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+ 4 289,9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6626160" y="313056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+ 1 287,0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Box 17"/>
          <p:cNvSpPr/>
          <p:nvPr/>
        </p:nvSpPr>
        <p:spPr>
          <a:xfrm>
            <a:off x="3960720" y="3284640"/>
            <a:ext cx="10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+ 30 135,6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3:21:39Z</dcterms:created>
  <dc:creator>Useroem</dc:creator>
  <dc:description/>
  <dc:language>en-US</dc:language>
  <cp:lastModifiedBy>Алексей Геринг</cp:lastModifiedBy>
  <cp:lastPrinted>2014-10-22T13:58:52Z</cp:lastPrinted>
  <dcterms:modified xsi:type="dcterms:W3CDTF">2014-10-28T11:14:26Z</dcterms:modified>
  <cp:revision>659</cp:revision>
  <dc:subject/>
  <dc:title>Слайд 1</dc:title>
</cp:coreProperties>
</file>