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A9C6-68CB-45C0-9E95-A57DC1CD48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артамент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сновные параметры прогноза социально-экономического развития области на 2009-2011 г.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Се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9DDF-9282-42CC-894B-8CB7D852F4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В. Моск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710E-41E5-46AE-B810-C6568598C7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8C77-2F11-4848-A11D-31B3F3DA8B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артамент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араметры прогноза социально-экономического развития области на 2008-2010 г.г., о разработке Программы на среднесроч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Се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79A0-178A-4D2D-A3FF-91665C3DF7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B807-1AC0-4744-A3EC-B6A48F2330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A6F1-BF80-42B7-8F56-4BB60869D4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030D-8108-4077-9A8D-D22081E0F6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3EC6-0201-47F5-B125-F45DB8B900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DD55-AB31-47DE-B872-2152AD4E8A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D8DD-0647-4271-8A3D-97D7B3325B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DD33-6C05-472C-B4AE-86AE4D879F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430-BBC1-4957-93BB-A93BB772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C68-C483-4872-9B62-AB69DFE5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A08-27EC-43A6-A597-C744D151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67B-F798-4218-855F-878ECBF6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DABC-7338-458C-B270-2945683F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4E6C-4712-4F2F-BAA4-C4A6763A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1986-C767-4B87-8889-A4327CCF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C69C-7AA8-4106-9F71-57C691A2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843A-DC31-43D4-B00A-BEE1FA10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C7DE-1D5A-44AB-AC9D-B0569DB6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DF09-06A7-497E-BD40-EFA89DBA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34F-1966-47E7-B0AA-BB6F23AC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5C02-82B2-4D33-BD05-507F79D2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A8E8-2218-493F-91A6-7F54F67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637D-92B1-4F07-9B66-0CF0F082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AC53-340C-4A90-AB79-93E89469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E1C1-4E89-4A13-837B-A5E1B6DF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3B62-4F32-41AE-BD77-60BFC6FE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0EA5-F0B0-465A-904F-2302D5DC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4EAA-6986-476B-8BFB-B18196B0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D18D-54FF-4DB8-8EF7-DD25826D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04311-AABD-48BA-8EFD-F81C59CA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4B6-E8F4-46A1-83AB-686C721E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8497-21C7-4FE0-87C0-16B516CA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507B-7A32-4B6E-BE3F-C4F91978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4DF0-A767-4A0A-A679-EB3CFCDB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4F93-9A9A-4725-A56F-A8B93392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409C-3EF2-4264-B0CF-C9E4480B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2D93-EE98-447B-BFCA-A6DEB858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5578-69B1-4B49-AD50-CB8BA1F3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53D-3EE0-4462-8ED3-14C4E448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96F-63C0-41C3-8052-82AEAD3D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DE3-1833-4882-84C5-ED9CFC1A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3AB-F25A-47F6-920D-541B1D60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B1B-3E32-47A8-AEC9-BD01FDCA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71E-F32A-4BFE-A2D8-1EF665F7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9A1A-17D7-4231-8A22-279C633C74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8648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D88B-24DD-414E-B722-76D15B5353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824D-9D8B-478D-905D-770C37E1B4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8648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3365-4C8B-46DC-B47A-5AEBACD8D8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8648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298F-8FBA-43C6-B098-CBAECC94AA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yuriryab\Рабочий стол\Карта России-Мурманск.jpg"/>
          <p:cNvPicPr/>
          <p:nvPr/>
        </p:nvPicPr>
        <p:blipFill>
          <a:blip r:embed="rId1"/>
          <a:stretch/>
        </p:blipFill>
        <p:spPr>
          <a:xfrm>
            <a:off x="762120" y="762120"/>
            <a:ext cx="7500960" cy="4179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85840" y="3789360"/>
            <a:ext cx="885816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меститель министра здравоохра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Мурманской области  Л.Г.Уша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934320" y="1295280"/>
            <a:ext cx="220968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29 октября 201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г. Мурм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9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FAF4-2397-426E-BF5C-25C0E5B879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6711840" y="5373720"/>
            <a:ext cx="2432160" cy="1484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0" y="0"/>
            <a:ext cx="845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АСЕДАНИЕ СОВЕТА ПРИ ГУБЕРНАТОРЕ МУРМАНСКОЙ ОБЛАСТИ ПО ДЕЛАМ ИНВАЛ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"/>
          <p:cNvSpPr/>
          <p:nvPr/>
        </p:nvSpPr>
        <p:spPr>
          <a:xfrm>
            <a:off x="1332000" y="2746440"/>
            <a:ext cx="712764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 ЗУБОПРОТЕЗИРОВАНИИ И ЛЕКАРСТВЕННОМ ОБЕСП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ГОТНЫХ КАТЕГОРИЙ ГРАЖДАН, ПРОЖИВАЮЩ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НА ТЕРРИ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УРМА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7"/>
          <p:cNvSpPr/>
          <p:nvPr/>
        </p:nvSpPr>
        <p:spPr>
          <a:xfrm>
            <a:off x="0" y="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ЪЕМ СРЕДСТВ, ПРЕДУСМОТРЕННЫЙ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ЬГОТНОЕ ЛЕКАРСТВЕННОЕ ОБЕСПЕЧЕНИЕ (МЛН. 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РЕГИОНАЛЬНАЯ ЛЬГО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666720"/>
          </a:xfrm>
          <a:prstGeom prst="rect">
            <a:avLst/>
          </a:prstGeom>
          <a:ln w="0">
            <a:noFill/>
          </a:ln>
        </p:spPr>
      </p:pic>
      <p:sp>
        <p:nvSpPr>
          <p:cNvPr id="178" name="Номер слайда 10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125B-C79B-4DC1-ABA0-0CE874657C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0" y="494028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Примечание:  рассчитано исходя из федерального норматива  финансовых затрат  на одного льготника согласно Федерального закона № 355-ФЗ от 21.12.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состоянию на 25.10.201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дено 221 аукциона на общую сумму 546,407 млн. руб. 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убликовано 14 аукционов на общую сумму 40,663 млн.руб. 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тадии размещения 17 аукционов на общую сумму 34,063 млн.руб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1071720" y="4741920"/>
            <a:ext cx="1425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1285920" y="4384800"/>
            <a:ext cx="278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тверждено средств регионального бюджета по состоя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4"/>
          <p:cNvSpPr/>
          <p:nvPr/>
        </p:nvSpPr>
        <p:spPr>
          <a:xfrm>
            <a:off x="5500800" y="4616280"/>
            <a:ext cx="27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5286240" y="4741920"/>
            <a:ext cx="1429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Диаграмма 19" descr=""/>
          <p:cNvPicPr/>
          <p:nvPr/>
        </p:nvPicPr>
        <p:blipFill>
          <a:blip r:embed="rId2"/>
          <a:stretch/>
        </p:blipFill>
        <p:spPr>
          <a:xfrm>
            <a:off x="927000" y="1066680"/>
            <a:ext cx="714384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7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7B3F-9944-4D15-9AC7-18B0A4522FF1}" type="slidenum"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РЕДНЯЯ СТОИМОСТЬ ОДНОГО РЕЦЕПТА В РУБЛЯ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РЕГИОНАЛЬНОЙ ЛЬГ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Диаграмма 5" descr=""/>
          <p:cNvPicPr/>
          <p:nvPr/>
        </p:nvPicPr>
        <p:blipFill>
          <a:blip r:embed="rId2"/>
          <a:stretch/>
        </p:blipFill>
        <p:spPr>
          <a:xfrm>
            <a:off x="360360" y="1285920"/>
            <a:ext cx="8497800" cy="514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2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НАПРАВЛЕНИЯ СОВЕРШЕНСТВОВАНИЯ  СИСТЕМЫ ЛЕКАРСТВЕННЫХ ЛЬГОТ в 2014 год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4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05FF-9F8E-4809-9BBC-9A19FB258B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Rectangle 3"/>
          <p:cNvGrpSpPr/>
          <p:nvPr/>
        </p:nvGrpSpPr>
        <p:grpSpPr>
          <a:xfrm>
            <a:off x="2054160" y="987480"/>
            <a:ext cx="6572160" cy="1658880"/>
            <a:chOff x="2054160" y="987480"/>
            <a:chExt cx="6572160" cy="1658880"/>
          </a:xfrm>
        </p:grpSpPr>
        <p:pic>
          <p:nvPicPr>
            <p:cNvPr id="192" name="Rectangle 3" descr=""/>
            <p:cNvPicPr/>
            <p:nvPr/>
          </p:nvPicPr>
          <p:blipFill>
            <a:blip r:embed="rId1"/>
            <a:stretch/>
          </p:blipFill>
          <p:spPr>
            <a:xfrm>
              <a:off x="2054160" y="987480"/>
              <a:ext cx="657216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071800" y="1000080"/>
              <a:ext cx="64800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Использование единого программного продук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Е-ФАРМА и РИСМ заявка на территории все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Мурманской области для автоматизации все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процессов лекарственного обеспечения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льготных категорий граждан за счет бюджет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разных уровн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Rectangle 5"/>
          <p:cNvGrpSpPr/>
          <p:nvPr/>
        </p:nvGrpSpPr>
        <p:grpSpPr>
          <a:xfrm>
            <a:off x="2077920" y="2700360"/>
            <a:ext cx="6572520" cy="1017720"/>
            <a:chOff x="2077920" y="2700360"/>
            <a:chExt cx="6572520" cy="1017720"/>
          </a:xfrm>
        </p:grpSpPr>
        <p:pic>
          <p:nvPicPr>
            <p:cNvPr id="195" name="Rectangle 5" descr=""/>
            <p:cNvPicPr/>
            <p:nvPr/>
          </p:nvPicPr>
          <p:blipFill>
            <a:blip r:embed="rId2"/>
            <a:stretch/>
          </p:blipFill>
          <p:spPr>
            <a:xfrm>
              <a:off x="2077920" y="2700360"/>
              <a:ext cx="65725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092320" y="2714760"/>
              <a:ext cx="648036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Создание сист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пофамильного учета граждан, имеющих пра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на льготное лекарственное обеспеч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ectangle 7"/>
          <p:cNvGrpSpPr/>
          <p:nvPr/>
        </p:nvGrpSpPr>
        <p:grpSpPr>
          <a:xfrm>
            <a:off x="2077920" y="3773520"/>
            <a:ext cx="6572520" cy="1231920"/>
            <a:chOff x="2077920" y="3773520"/>
            <a:chExt cx="6572520" cy="1231920"/>
          </a:xfrm>
        </p:grpSpPr>
        <p:pic>
          <p:nvPicPr>
            <p:cNvPr id="198" name="Rectangle 7" descr=""/>
            <p:cNvPicPr/>
            <p:nvPr/>
          </p:nvPicPr>
          <p:blipFill>
            <a:blip r:embed="rId3"/>
            <a:stretch/>
          </p:blipFill>
          <p:spPr>
            <a:xfrm>
              <a:off x="2077920" y="3773520"/>
              <a:ext cx="6572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092320" y="3786120"/>
              <a:ext cx="6480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Актуализация перечней лекарственных препаратов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закупаемых и отпускаемых граждана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за счет средств областного и федерального бюдже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Rectangle 9"/>
          <p:cNvGrpSpPr/>
          <p:nvPr/>
        </p:nvGrpSpPr>
        <p:grpSpPr>
          <a:xfrm>
            <a:off x="2077920" y="5059440"/>
            <a:ext cx="6572520" cy="1158840"/>
            <a:chOff x="2077920" y="5059440"/>
            <a:chExt cx="6572520" cy="1158840"/>
          </a:xfrm>
        </p:grpSpPr>
        <p:pic>
          <p:nvPicPr>
            <p:cNvPr id="201" name="Rectangle 9" descr=""/>
            <p:cNvPicPr/>
            <p:nvPr/>
          </p:nvPicPr>
          <p:blipFill>
            <a:blip r:embed="rId4"/>
            <a:stretch/>
          </p:blipFill>
          <p:spPr>
            <a:xfrm>
              <a:off x="2077920" y="5059440"/>
              <a:ext cx="6572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092320" y="5072040"/>
              <a:ext cx="64803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Формирование рациональной и сбалансированн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с имеющимися ресурсами медицинских организаций систем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лекарственного обеспечения населения Мурманской обла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Picture 2" descr="C:\Documents and Settings\yuriryab\Рабочий стол\Шаблон-Мурманск-2.jpg"/>
          <p:cNvPicPr/>
          <p:nvPr/>
        </p:nvPicPr>
        <p:blipFill>
          <a:blip r:embed="rId5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204" name="Стрелка вправо 14"/>
          <p:cNvGrpSpPr/>
          <p:nvPr/>
        </p:nvGrpSpPr>
        <p:grpSpPr>
          <a:xfrm>
            <a:off x="-12600" y="1768320"/>
            <a:ext cx="2090520" cy="3310200"/>
            <a:chOff x="-12600" y="1768320"/>
            <a:chExt cx="2090520" cy="3310200"/>
          </a:xfrm>
        </p:grpSpPr>
        <p:pic>
          <p:nvPicPr>
            <p:cNvPr id="205" name="Стрелка вправо 14" descr=""/>
            <p:cNvPicPr/>
            <p:nvPr/>
          </p:nvPicPr>
          <p:blipFill>
            <a:blip r:embed="rId6"/>
            <a:stretch/>
          </p:blipFill>
          <p:spPr>
            <a:xfrm>
              <a:off x="-12600" y="1768320"/>
              <a:ext cx="209052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2589120"/>
              <a:ext cx="150012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1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D1E4-DD14-428B-9094-0BB7CDD8E2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РОПРИЯТИЯ ПО УЛУЧШЕНИЮ СИТУАЦ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ОБЕСПЕЧЕНИЕМ ЛЕКАРСТВЕННЫМИ ПРЕПАРАТАМИ ЛЬГОТНЫХ КАТЕГОРИЙ ГРАЖД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1000080"/>
            <a:ext cx="89298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6"/>
          <p:cNvGrpSpPr/>
          <p:nvPr/>
        </p:nvGrpSpPr>
        <p:grpSpPr>
          <a:xfrm>
            <a:off x="2109960" y="1109520"/>
            <a:ext cx="6570360" cy="1425600"/>
            <a:chOff x="2109960" y="1109520"/>
            <a:chExt cx="6570360" cy="1425600"/>
          </a:xfrm>
        </p:grpSpPr>
        <p:pic>
          <p:nvPicPr>
            <p:cNvPr id="212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109960" y="1109520"/>
              <a:ext cx="657036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143080" y="1143000"/>
              <a:ext cx="6500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Министерство здравоохранения Мурманской области проводит инвентаризацию расходных обязательств, утвержденных на 2014 год, и изыскивает средства для проведения дополнительных аукционов по приобретению необходимых лекарственных препаратов для льготных категорий граждан Мурманской обла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Прямоугольник 10"/>
          <p:cNvGrpSpPr/>
          <p:nvPr/>
        </p:nvGrpSpPr>
        <p:grpSpPr>
          <a:xfrm>
            <a:off x="2109960" y="2610000"/>
            <a:ext cx="6570360" cy="1498320"/>
            <a:chOff x="2109960" y="2610000"/>
            <a:chExt cx="6570360" cy="1498320"/>
          </a:xfrm>
        </p:grpSpPr>
        <p:pic>
          <p:nvPicPr>
            <p:cNvPr id="215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2109960" y="2610000"/>
              <a:ext cx="657036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143080" y="2643120"/>
              <a:ext cx="65008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Министерство здравоохранения Мурманской области готовит обращение Губернатора Мурманской области в адрес Министерства здравоохранения Российской Федерации по дополнительному федеральному финансированию больных с орфанными заболеваниями (по рекомендации федеральных клиник)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Прямоугольник 11"/>
          <p:cNvGrpSpPr/>
          <p:nvPr/>
        </p:nvGrpSpPr>
        <p:grpSpPr>
          <a:xfrm>
            <a:off x="2109960" y="4181400"/>
            <a:ext cx="6570360" cy="1212840"/>
            <a:chOff x="2109960" y="4181400"/>
            <a:chExt cx="6570360" cy="1212840"/>
          </a:xfrm>
        </p:grpSpPr>
        <p:pic>
          <p:nvPicPr>
            <p:cNvPr id="218" name="Прямоугольник 11" descr=""/>
            <p:cNvPicPr/>
            <p:nvPr/>
          </p:nvPicPr>
          <p:blipFill>
            <a:blip r:embed="rId4"/>
            <a:stretch/>
          </p:blipFill>
          <p:spPr>
            <a:xfrm>
              <a:off x="2109960" y="4181400"/>
              <a:ext cx="6570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143080" y="4214880"/>
              <a:ext cx="65008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Заключен Государственный контракт на доработку программного продукта «Е-Фарма», в том числе для формирования персонифицированной заявки. Эффективное планирование - это гарантия своевременного получения лекарственных препара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Прямоугольник 12"/>
          <p:cNvGrpSpPr/>
          <p:nvPr/>
        </p:nvGrpSpPr>
        <p:grpSpPr>
          <a:xfrm>
            <a:off x="2109960" y="5467320"/>
            <a:ext cx="6570360" cy="1141560"/>
            <a:chOff x="2109960" y="5467320"/>
            <a:chExt cx="6570360" cy="1141560"/>
          </a:xfrm>
        </p:grpSpPr>
        <p:pic>
          <p:nvPicPr>
            <p:cNvPr id="221" name="Прямоугольник 12" descr=""/>
            <p:cNvPicPr/>
            <p:nvPr/>
          </p:nvPicPr>
          <p:blipFill>
            <a:blip r:embed="rId5"/>
            <a:stretch/>
          </p:blipFill>
          <p:spPr>
            <a:xfrm>
              <a:off x="2109960" y="5467320"/>
              <a:ext cx="657036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2143080" y="5500800"/>
              <a:ext cx="650088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Министерство здравоохранения Мурманской области проводит организационно-контрольные мероприятия, направленные на недопущение выписки лекарственных препаратов по торговым (фирменным) наименования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Стрелка вправо 13"/>
          <p:cNvGrpSpPr/>
          <p:nvPr/>
        </p:nvGrpSpPr>
        <p:grpSpPr>
          <a:xfrm>
            <a:off x="-12600" y="1768320"/>
            <a:ext cx="2090520" cy="3310200"/>
            <a:chOff x="-12600" y="1768320"/>
            <a:chExt cx="2090520" cy="3310200"/>
          </a:xfrm>
        </p:grpSpPr>
        <p:pic>
          <p:nvPicPr>
            <p:cNvPr id="224" name="Стрелка вправо 13" descr=""/>
            <p:cNvPicPr/>
            <p:nvPr/>
          </p:nvPicPr>
          <p:blipFill>
            <a:blip r:embed="rId6"/>
            <a:stretch/>
          </p:blipFill>
          <p:spPr>
            <a:xfrm>
              <a:off x="-12600" y="1768320"/>
              <a:ext cx="209052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2589120"/>
              <a:ext cx="150012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28600" indent="-228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C:\Documents and Settings\yuriryab\Рабочий стол\Карта России-Мурманск.jpg"/>
          <p:cNvPicPr/>
          <p:nvPr/>
        </p:nvPicPr>
        <p:blipFill>
          <a:blip r:embed="rId1"/>
          <a:stretch/>
        </p:blipFill>
        <p:spPr>
          <a:xfrm>
            <a:off x="785880" y="1071720"/>
            <a:ext cx="7502400" cy="41796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324000" y="5181480"/>
            <a:ext cx="8591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6359400" y="765000"/>
            <a:ext cx="25560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29 октября 201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г. Мурм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7500960" y="585792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"/>
          <p:cNvSpPr/>
          <p:nvPr/>
        </p:nvSpPr>
        <p:spPr>
          <a:xfrm>
            <a:off x="2959200" y="3259080"/>
            <a:ext cx="3225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лагодарю за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76320" y="5765760"/>
            <a:ext cx="457200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Заместитель министра здравоохранения Мурма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Л.Г.Уша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773840" y="0"/>
            <a:ext cx="1370160" cy="836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КОНОДАТЕЛЬНАЯ БАЗА ЗУБОПРОТЕЗ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Закон Мурманской области от 23.12.2004 № 550-01-ЗМ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«О мерах социальной поддержки отдельных категорий граждан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Закон Мурманской области от 29.12.2004  № 573-01-ЗМ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«О мерах социальной поддержки инвалид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Закон Мурманской области от 13.05.2009 № 1099-01-ЗМ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«О предоставлении социальной услуги по изготовлению и ремонту зубных протезов отдельным категориям граждан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Закон Мурманской области от 17.03.1997 № 50-01-ЗМ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«О мерах социальной поддержки донорам крови и ее   компонентов в Мурманской обла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162B-92C1-4D3C-B69E-9EF9E3C073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773840" y="0"/>
            <a:ext cx="1370160" cy="836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ТЕГОРИИ ГРАЖДАН, ИМЕЮЩИЕ ПРАВО НА ЛЬГОТНОЕ ЗУБОПРОТЕЗ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Инвалиды Великой Отечественной вой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Участники Великой Отечественной вой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Несовершеннолетние узники фашистских концлагерей, реабилитированные лица и лица, признанные пострадавшими от политических репре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Труженики ты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Ветераны тру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Пенсионеры по старости (женщины в возрасте 55 лет и старше, мужчины в возрасте 60 лет и старше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Инвалиды (женщины в возрасте 55 лет и старше, мужчины в возрасте 60 лет и старше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Почетные доно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842C-DAD8-4AEF-AA4C-C1260EDB56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214200" y="1143000"/>
            <a:ext cx="878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86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КАЗАНИЕ УСЛУГ ПО ИЗГОТОВЛЕНИЮ И РЕМОНТУ ЗУБНЫХ ПРОТЕЗ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2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2906-207F-43DB-B104-69E22534EF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773840" y="0"/>
            <a:ext cx="1370160" cy="836640"/>
          </a:xfrm>
          <a:prstGeom prst="rect">
            <a:avLst/>
          </a:prstGeom>
          <a:ln w="0">
            <a:noFill/>
          </a:ln>
        </p:spPr>
      </p:pic>
      <p:pic>
        <p:nvPicPr>
          <p:cNvPr id="150" name="Диаграмма 6" descr=""/>
          <p:cNvPicPr/>
          <p:nvPr/>
        </p:nvPicPr>
        <p:blipFill>
          <a:blip r:embed="rId2"/>
          <a:stretch/>
        </p:blipFill>
        <p:spPr>
          <a:xfrm>
            <a:off x="92160" y="878040"/>
            <a:ext cx="888840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773840" y="0"/>
            <a:ext cx="1370160" cy="836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НАНСОВОЕ ОБЕСПЕ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E6A2-979C-4F0E-9ABB-4C2B8F472F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4200" y="1428840"/>
          <a:ext cx="8643960" cy="3201840"/>
        </p:xfrm>
        <a:graphic>
          <a:graphicData uri="http://schemas.openxmlformats.org/drawingml/2006/table">
            <a:tbl>
              <a:tblPr/>
              <a:tblGrid>
                <a:gridCol w="857520"/>
                <a:gridCol w="1428480"/>
                <a:gridCol w="1428840"/>
                <a:gridCol w="1000080"/>
                <a:gridCol w="1274760"/>
                <a:gridCol w="1354320"/>
                <a:gridCol w="129996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1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1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л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Фа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% исполне-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л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Исполне-ние 9 меся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% исполне-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15 519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15 39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8 64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6 83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773840" y="0"/>
            <a:ext cx="1370160" cy="836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86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ПРОБЛЕМЫ И ПУТИ ИХ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дровый дефици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сутствие врача стоматолога-ортопеда в г. Ковдор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изкая укомплектованность зубными техниками в других медицинских организац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настоящее время прорабатывается вопрос целесообразност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в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бучения в медицинских колледжах Мурманской области по специальности «стоматология ортопедическая», либо целевой подготовки указанных специалистов в медицинском колледже Северного государственного медицинского университета (г. Архангельск) с 2016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ащение медицинским оборудовани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2014 году за счет средств областного бюджета запланировано приобретение 21 единиц стоматологического оборудования для государственных учреждений, в том числе 11 комплектов стоматологических установ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итогам 9 месяцев приобретено 17 единиц оборудовани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38BC-716C-419D-8E8C-2735EFB7A4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Заголовок 1"/>
          <p:cNvSpPr/>
          <p:nvPr/>
        </p:nvSpPr>
        <p:spPr>
          <a:xfrm>
            <a:off x="0" y="0"/>
            <a:ext cx="8072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ЧЕНЬ ЛЬГОТНЫХ КАТЕГОРИЙ ГРАЖД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УЧАЮЩИХ ЛЬГОТНОЕ ЛЕКАРСТВЕН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4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3B63-8DD9-4177-B2DA-63DBFB4C25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79280" y="1071720"/>
            <a:ext cx="850752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циальных групп 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том числе инвалиды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, 2, 3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ы по всем видам заболеваний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всего 13059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л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век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еспечиваются бесплатным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карствам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оответствии с федеральным законом от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7.07.1999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78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З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«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 государственной социальной помощ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»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 счет средств федерального бюджета н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умму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179 081,03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ыс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уб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 социальных групп и 31 категория заболеваний имеют право на бесплатное обеспечение лекарственными средствами за счет средств регионального бюджета, в соответствии с Постановлением Правительства Российской Федерации от 30.07.1994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 890 «О государственной поддержке развития медицинской промышленности  и улучшения обеспечения населения и учреждений здравоохранения лекарственными средствами и изделиями медицинского назначения». Всего 69 030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этом 9 групп федеральных льготников перечислены в Постановлении Правительства РФ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 30.07.1994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 890 и имеют право на получение бесплатного лекарственного обеспечения за счет средств федерального и регионального бюдже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ИНАМИКА ЧИСЛЕННОСТИ ОТДЕЛЬНЫХ КАТЕГОР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АЖДАН, ИМЕЮЩИХ ПРАВО НА Л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Содержимое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572320" cy="5214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66" name="Номер слайда 10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2F79-51A2-4757-8F00-09E36655C4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ИНАМИКА КОЛИЧЕСТВА ЛЬГОТНИКОВ С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ЦИАЛЬНО-ЗНАЧИМЫМИ ЗАБОЛЕВА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1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796E-F6C1-4FFA-96F7-4E2B0C1656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3429000" y="3213000"/>
            <a:ext cx="493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5" descr=""/>
          <p:cNvPicPr/>
          <p:nvPr/>
        </p:nvPicPr>
        <p:blipFill>
          <a:blip r:embed="rId2"/>
          <a:stretch/>
        </p:blipFill>
        <p:spPr>
          <a:xfrm>
            <a:off x="0" y="857160"/>
            <a:ext cx="4714920" cy="339876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3"/>
          <a:stretch/>
        </p:blipFill>
        <p:spPr>
          <a:xfrm>
            <a:off x="4572000" y="1012680"/>
            <a:ext cx="4357800" cy="297360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4" descr=""/>
          <p:cNvPicPr/>
          <p:nvPr/>
        </p:nvPicPr>
        <p:blipFill>
          <a:blip r:embed="rId4"/>
          <a:stretch/>
        </p:blipFill>
        <p:spPr>
          <a:xfrm>
            <a:off x="142920" y="3571920"/>
            <a:ext cx="4143240" cy="3071880"/>
          </a:xfrm>
          <a:prstGeom prst="rect">
            <a:avLst/>
          </a:prstGeom>
          <a:ln w="0">
            <a:noFill/>
          </a:ln>
        </p:spPr>
      </p:pic>
      <p:pic>
        <p:nvPicPr>
          <p:cNvPr id="174" name="Диаграмма 11" descr=""/>
          <p:cNvPicPr/>
          <p:nvPr/>
        </p:nvPicPr>
        <p:blipFill>
          <a:blip r:embed="rId5"/>
          <a:stretch/>
        </p:blipFill>
        <p:spPr>
          <a:xfrm>
            <a:off x="4421160" y="3500280"/>
            <a:ext cx="4437000" cy="32148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4357800" y="3500280"/>
            <a:ext cx="4786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рминальная почечная недостаточность (гемодиализ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10:27:56Z</dcterms:created>
  <dc:creator>Ковалев</dc:creator>
  <dc:description/>
  <dc:language>en-US</dc:language>
  <cp:lastModifiedBy>Алексей Геринг</cp:lastModifiedBy>
  <dcterms:modified xsi:type="dcterms:W3CDTF">2014-10-28T11:13:45Z</dcterms:modified>
  <cp:revision>475</cp:revision>
  <dc:subject/>
  <dc:title>Слайд 1</dc:title>
</cp:coreProperties>
</file>